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4607-239E-45D0-B9BB-760AD242E2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86E9-610F-43B8-987E-57F7B48307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 czym wnioskodawca jest informowany na piśmie odpowiednio przez LGD, za pośrednictwem której wniesiono protest, albo przez zarząd województwa, a informacja ta zawiera pouczenie o możliwości wniesienia skargi do sądu administracyjne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Uwag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przez „dany cel LSR”, o którym mowa w art. 22 ust. 8 pkt 3 ustawy RLKS, należy rozumieć cel ogólny LS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C065-B8E9-470A-B5C7-6518A96632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997-9C63-4532-9289-7E6CAF39786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B7B-7A11-48AB-9B67-0634D2F366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d niektórych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nie od wszystkich (sugeruje to już sam fakt, że tylko w niektórych pismach do wnioskodawców dołącza się pouczenie o prawie do protes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75A-6D39-405E-A3CA-465CB7D961F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st jest wnoszony w formie pisemnej i zawi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 7 d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 do którego zarządu województwa należy skierować protest i za pośrednictwem której L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znaczenie wnioskodawc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numer wniosku o dofinansowanie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kryteriów wyboru projektów, z których oceną wnioskodawca się nie zgadza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kazanie zarzutów o charakterze proceduralnym w zakresie przeprowadzonej oceny, jeżeli zdaniem wnioskodawcy naruszenia takie miały miejsce, wraz z uzasadnieni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negatywnej oceny zgodności operacji z LSR wskazanie, w jakim zakresie podmiot ubiegający się o wsparcie nie zgadza się z tą oceną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ustalenia przez LGD kwoty wsparcia niższej niż wnioskowana wskazanie, w jakim zakresie podmiot ubiegający się o wsparcie  nie zgadza się z tym ustaleniem, oraz uzasadnie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pis wnioskodawcy lub osoby upoważnionej do jego reprezentowania, z załączeniem oryginału lub kopii dokumentu poświadczającego umocowanie takiej osoby do reprezentowania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FD92-5799-4083-AE86-A7B602BE84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(art. 54 ust. 2-6 ustawy PS w zw. z art. 22 ust. 3 i 4 ustawy RLK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BA7-B9F5-4F41-AD06-37407812CD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esienia protestu niespełniającego ww. wymogów formalnych lub zawierającego oczywiste omyłki, właściwa instytucja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ROBI TO LGD, EWENTUALNIE ZW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zywa wnioskodawcę do jego uzupełnienia lub poprawienia w nim oczywistych omyłek, w terminie 7 dni, licząc od dnia otrzymania wezwania, pod rygorem pozostawienia protestu bez rozpatrze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BF9-4D2C-4E46-9405-01511D1926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7ACF-9E49-40BB-85C7-18FD7AB50D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21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Calibri"/>
              </a:rPr>
              <a:t>45</a:t>
            </a: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D5F5-C879-42F5-BEB5-F2095B1953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rząd województwa, rozpatruje protest, weryfikując prawidłowość oceny operacji w zakresie kryteriów i zarzutów podnoszonych w proteście, w terminie nie dłuższym niż 30 dni, licząc od dnia jego otrzymania. W uzasadnionych przypadkach, w szczególności gdy w trakcie rozpatrywania protestu konieczne jest skorzystanie z pomocy ekspertów, termin rozpatrzenia protestu może być przedłużony, o czym zarząd województwa informuje na piśmie wnioskodawcę. Termin rozpatrzenia protestu nie może przekroczyć łącznie 60 dni od dnia jego otrzym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231F-1DF0-45C3-9D7E-CF9D8F961B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83B-2A12-4E83-A5B3-51B1468B12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51C-B289-4D6D-B148-47B79300C87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1204920"/>
            <a:ext cx="777708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cedura odwoławcza od rozstrzygnięć LGD w klasycznej ścieżce konkursowej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ROTEST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/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zostawienie protestu bez rozpatr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cc00"/>
                </a:solidFill>
                <a:latin typeface="Arial"/>
              </a:rPr>
              <a:t>(art. 59 i 66 ust. 2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"/>
          <p:cNvSpPr/>
          <p:nvPr/>
        </p:nvSpPr>
        <p:spPr>
          <a:xfrm>
            <a:off x="395280" y="17002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test pozostawia się bez rozpatrzenia jeżeli (pomimo prawidłowego pouczeni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ostał wniesiony przez podmiot wykluczony z możliwości otrzymania wspar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wskazuje kryteriów wyboru operacji, z których oceną wnioskodawca się nie zgadza, lub w jakim zakresie wnioskodawca, nie zgadza się z negatywną oceną zgodności operacji z LSR lub w jakim zakresie wnioskodawca nie zgadza się z ustaleniem przez LGD kwoty wsparcia niższej niż wnioskowana oraz nie zawiera uzasadni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rotest pozostawia się bez rozpatrzenia także wówczas, gdy została wyczerpana kwota środków przewidzianych w umowie ramowej na realizację danego celu LSR w ramach środków pochodzących z danego EF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rostokąt 1"/>
          <p:cNvSpPr/>
          <p:nvPr/>
        </p:nvSpPr>
        <p:spPr>
          <a:xfrm>
            <a:off x="468360" y="22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ytuacji błędnego pouczenia, nie można pozostawić bez rozpatrzenia protestu, który został wniesio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po termi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bez spełnienia wymogów określonych w art. 54 ust. 2 pkt 4 ustawy o polityce spój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akim przypadku należy wezwać wnioskodawcę do uzupełni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ozpatrzyć 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ymbol zastępczy tekstu 4"/>
          <p:cNvSpPr/>
          <p:nvPr/>
        </p:nvSpPr>
        <p:spPr>
          <a:xfrm>
            <a:off x="468360" y="77940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w przypadku, gdy pismo informujące do wnioskodawcy nie zawiera pouczenia, bądź zawiera błędne pou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388800" y="450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 – limit na poziomie celu ogóln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w limi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476360" y="1916280"/>
          <a:ext cx="6095880" cy="3409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nioskod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wota po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ość punk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y mieści się w lim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– uwzględniony pro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9" name="pole tekstowe 2"/>
          <p:cNvSpPr/>
          <p:nvPr/>
        </p:nvSpPr>
        <p:spPr>
          <a:xfrm>
            <a:off x="1390680" y="907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zenie protestu – wybrany poza lim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88296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395280" y="1644480"/>
            <a:ext cx="8193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becnej perspektyw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 niektórych rozstrzygnięć Rady przysługuje środek odwoławczy (art. 22 RLK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) operacja została negatywnie oceniona pod względem zgodności z LSR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) operacja nie uzyskała minimalnej liczby punktów w ramach kryteri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boru operacji (czyli nie została wybrana przez LGD)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) operacja została wybrana ale nie mieści się w limicie środków wskaz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głoszeniu o naborze wniosków al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 protest przysługuje także od ustalenia przez LGD kwoty wsparcia niższ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ż wnioskowa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1"/>
          <p:cNvSpPr/>
          <p:nvPr/>
        </p:nvSpPr>
        <p:spPr>
          <a:xfrm>
            <a:off x="1116000" y="2705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I pię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1"/>
          <p:cNvSpPr/>
          <p:nvPr/>
        </p:nvSpPr>
        <p:spPr>
          <a:xfrm>
            <a:off x="611280" y="2705040"/>
            <a:ext cx="78483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UCZENIE O MOŻLIWOŚCI WNIESIENIA PROTESTU OKREŚ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termin do wniesi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oznaczenie instytucji właściwej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ymogi formalne prot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uczenie o prawie do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2"/>
          <p:cNvSpPr/>
          <p:nvPr/>
        </p:nvSpPr>
        <p:spPr>
          <a:xfrm>
            <a:off x="1112760" y="190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"/>
              </a:rPr>
              <a:t>(art. 21 ust. 5 i 6 ustawy RLKS oraz art. 46 ust. 5 ustawy PS w zw. z art. 21 ust. 7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a wnoszenia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60360" y="1700280"/>
            <a:ext cx="828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test jest wnoszony w formie pisemnej i zawie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) oznaczenie zarządu województwa właściwego do rozpatrzenia protest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oznaczenie wnioskodawc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) numer WoP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) wskazanie kryteriów wyboru operacji oraz uzasadnienie stanowisk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) wskazanie zarzutów o charakterze proceduralnym wraz z uzasadnieniem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) podpis wnioskodawcy, lub osoby upoważnione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to (jeśli dotyczy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skazanie, w jakim zakresie wnioskodawca nie zgadza się z negatywną oceną zgodności operacji z LSR oraz uzasadnien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skazanie, w jakim zakresie wnioskodawca nie zgadza się z ustaleniem przez LGD kwoty wsparcia niższej niż wnioskowana oraz uzasadnien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733320" y="561960"/>
            <a:ext cx="74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zupełni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rostokąt 2"/>
          <p:cNvSpPr/>
          <p:nvPr/>
        </p:nvSpPr>
        <p:spPr>
          <a:xfrm>
            <a:off x="468360" y="18590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enie protestu może nastąpić wyłącznie w zakres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) oznaczenia zarządu województwa właściwego do rozpatrzenia protes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oznaczenia wnioskodaw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) numeru WoP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4) podpisu wnioskodawcy, osoby upoważnionej do jego reprezentowania, lub dokumentu poświadczającego umocowanie osoby do reprezentow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rostokąt 1"/>
          <p:cNvSpPr/>
          <p:nvPr/>
        </p:nvSpPr>
        <p:spPr>
          <a:xfrm>
            <a:off x="395280" y="1844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w terminie 14 dni od dnia otrzymania protestu weryfikuje wyniki dokonanej przez siebie oceny operacji w zakresie kryteriów i zarzutów podnoszonych w proteście,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kierowanie operacji do właściwego etapu oceny al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mieszczenie na liście operacji wybranych, a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kieruje protest do zarządu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zależnie od powyższego, o wniesionym proteście LGD informuje niezwłocznie zarząd wojewó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tekstu 4"/>
          <p:cNvSpPr/>
          <p:nvPr/>
        </p:nvSpPr>
        <p:spPr>
          <a:xfrm>
            <a:off x="324000" y="561960"/>
            <a:ext cx="826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utokontrola”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b050"/>
                </a:solidFill>
                <a:latin typeface="Arial"/>
              </a:rPr>
              <a:t>(art. 56 ust. 2 ustawy PS w zw. z art. 22 ust. 8 ustawy RLKS oraz art. 22 ust. 7 ustawy RLK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rostokąt 1"/>
          <p:cNvSpPr/>
          <p:nvPr/>
        </p:nvSpPr>
        <p:spPr>
          <a:xfrm>
            <a:off x="372960" y="2205000"/>
            <a:ext cx="455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względnienia protest or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ieruje protest do właściwego etapu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rzekazuje LGD w celu ponownej oc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zarząd województ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"/>
          <p:cNvSpPr/>
          <p:nvPr/>
        </p:nvSpPr>
        <p:spPr>
          <a:xfrm>
            <a:off x="372960" y="2205000"/>
            <a:ext cx="455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konuje zmiany rozstrzygnięcia i umieszcza na liście operacji wybranych w limic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) nie uwzględnia protestu – pouczenie o możliwości wniesienia skargi do sądu administracyj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atrywanie protestu (LG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7 oraz art. 58 ust. 1 i 2 ustawy PS w zw. z art. 22 ust. 8 ustawy RL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Znalezione obrazy dla zapytania rozpatrzenie"/>
          <p:cNvPicPr/>
          <p:nvPr/>
        </p:nvPicPr>
        <p:blipFill>
          <a:blip r:embed="rId2"/>
          <a:stretch/>
        </p:blipFill>
        <p:spPr>
          <a:xfrm>
            <a:off x="4840200" y="1847880"/>
            <a:ext cx="37800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ymbol zastępczy tekstu 4"/>
          <p:cNvSpPr/>
          <p:nvPr/>
        </p:nvSpPr>
        <p:spPr>
          <a:xfrm>
            <a:off x="468360" y="5619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NIESIENIE I ROZPATRZENIE PROTES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nowny wybór operacji przez L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b050"/>
                </a:solidFill>
                <a:latin typeface="Arial"/>
              </a:rPr>
              <a:t>(art. 58 ust. 3 i 4 ustawy PS w zw. z art. 22 ust. 8 ustawy RLK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2"/>
          <p:cNvSpPr/>
          <p:nvPr/>
        </p:nvSpPr>
        <p:spPr>
          <a:xfrm>
            <a:off x="442800" y="29844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dokonu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mian w sporządzonych dla naboru i opublikowanych listach (możliwe jest podjęcie i opublikowanie listy „technicznej”, zawierającej operacje „po proteście”, przesunięcia na liście rezerwowej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3"/>
          <p:cNvSpPr/>
          <p:nvPr/>
        </p:nvSpPr>
        <p:spPr>
          <a:xfrm>
            <a:off x="420840" y="390852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a rozstrzygnięcia LGD w zakresie oceny lub wyboru operacji, która nastąpi w związku z uwzględnieniem protestu, wiąże się przede wszystkim z koniecznością podjęcia przez LGD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osownej uchwały. Wskazane jest utworzenie i opublikowanie listy operacji ocenionych w ramach protestów. ZW dokonuje zestawienia projektów z listy pierwotnej oraz listy operacji „poprotestowyc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504720" y="2060640"/>
            <a:ext cx="81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postępowania z operacjami, w odniesieniu do których, po rozpatrzeniu protestu, konieczne jest ich „umieszczenie" na liście operacji wybranych do finansowania (dodanie do listy / przesunięcie na liści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2" descr=""/>
          <p:cNvPicPr/>
          <p:nvPr/>
        </p:nvPicPr>
        <p:blipFill>
          <a:blip r:embed="rId1"/>
          <a:stretch/>
        </p:blipFill>
        <p:spPr>
          <a:xfrm>
            <a:off x="4932360" y="5897520"/>
            <a:ext cx="36561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7-07-25T10:10:31Z</cp:lastPrinted>
  <dcterms:modified xsi:type="dcterms:W3CDTF">2017-12-05T13:50:35Z</dcterms:modified>
  <cp:revision>819</cp:revision>
  <dc:subject/>
  <dc:title>Slajd 1</dc:title>
</cp:coreProperties>
</file>