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C211-F6F0-478B-94C5-7A71EC9280C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028E-B1F7-42C4-BB7D-E4DAD629757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B4CF-E8D7-4393-9C95-16FEFA077FF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BD7E-142A-4635-9498-865BC8962CB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CEC4-23A7-4ACF-AAD8-F47FC24A444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E9F9-79E4-4D4E-A367-EC69CA2085D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7DAC-29B2-48F9-B45E-1C0CB5BEE08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35D5-2B3F-47E9-84DF-E7F0E56517F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A6D1-F19E-4778-8325-9E7A98ECD64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64E3-1681-4F7D-9D68-3BCB3A4C8F40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9000"/>
            <a:ext cx="7775280" cy="44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YPEŁNIANIE WNIOSKU O PŁATNOŚĆ</a:t>
            </a:r>
            <a:br>
              <a:rPr sz="2000"/>
            </a:b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Działanie: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M19 „Wsparcie dla rozwoju lokalnego w ramach inicjatywy LEADER  </a:t>
            </a:r>
            <a:br>
              <a:rPr sz="2000"/>
            </a:b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Poddziałanie: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19.3 „Przygotowanie i realizacja działań w zakresie współpracy z lokalną grupą działania”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900000" y="4941720"/>
            <a:ext cx="3816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Grudzień 20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1"/>
          <p:cNvSpPr/>
          <p:nvPr/>
        </p:nvSpPr>
        <p:spPr>
          <a:xfrm>
            <a:off x="2945520" y="6568920"/>
            <a:ext cx="600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Przygotowane w oparciu o instrukcję wypełniania WoP (2z) oraz instrukcję do karty weryfikacji WoP (2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az 2" descr=""/>
          <p:cNvPicPr/>
          <p:nvPr/>
        </p:nvPicPr>
        <p:blipFill>
          <a:blip r:embed="rId1"/>
          <a:stretch/>
        </p:blipFill>
        <p:spPr>
          <a:xfrm>
            <a:off x="4716360" y="4653000"/>
            <a:ext cx="3888000" cy="431640"/>
          </a:xfrm>
          <a:prstGeom prst="rect">
            <a:avLst/>
          </a:prstGeom>
          <a:ln w="0">
            <a:noFill/>
          </a:ln>
        </p:spPr>
      </p:pic>
      <p:pic>
        <p:nvPicPr>
          <p:cNvPr id="129" name="Obraz 3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4103640" cy="7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. SUMA Z WYKAZU FAKTUR LUB DOKUMENTÓW O RÓWNOWAŻNEJ WARTOŚCI DOWODOWEJ DOKUMENTUJĄCYCH PONIESIONE KOSZTY KWALIFIKOWAL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d wypełnieniem tej sekcji, zaleca się wypełnić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ekcje V.A wniosk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Pola w tej sekcji powinny być zgodne z sumą  powielonych sekcji V.A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Kwota wydatków całkowitych (w zł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–  kwota powinna być równa kwocie wydatków całkowitych wskazanych w 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1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Ogółem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kwota powinna być równa kwocie wydatków kwalifikowalnych ogółem wskazanych w 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2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W tym VAT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kwota powinna być równa kwocie wydatków kwalifikowalnych, w tym VAT wskazanych w powielonych sekcjach V.A. wniosku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. 13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la każdego partne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A. WYKAZ FAKTUR LUB DOKUMENTÓW O RÓWNOWAŻNEJ WARTOŚCI DOWODOWEJ DOKUMENTUJĄCYCH PONIESIONE KOSZTY KWALIFIKOWAL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ekcję należy powielić i wypełnić w liczbie odpowiadającej liczbie partnerów ubiegających się o płatność w danym etapie operacj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Nr LGD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…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partnera nadany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lumna 3 - Numer konta księgowego lub kodu rachunkowego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konta, na którym dokonano ewidencji zdarzenia lub numer kodu rachunkowego stanowiące potwierdzenie prowadzenia przez LGD oddzielnego systemu rachunkowości albo stosowanie oddzielnego kodu rachunk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ASADY EWIDENCJI ZDARZEŃ GOSPODARCZ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ole tekstowe 2"/>
          <p:cNvSpPr/>
          <p:nvPr/>
        </p:nvSpPr>
        <p:spPr>
          <a:xfrm>
            <a:off x="733320" y="1916280"/>
            <a:ext cx="7705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LGD ma obowiązek ustalenia i opisania zasad dotyczących ewidencji zdarzeń gospodarczych dokumentujących realizację operacji w ramach przyjętej polityki rachunkowośc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GD realizujące operacje w ramach PROW na lata 2014-2020 są zobowiązane do prowadzenia oddzielnego systemu rachunkowości albo korzystania z odpowiedniego kodu rachunkowego dla wszystkich transakcji związanych z realizacją oper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bowiązek prowadzenia oddzielnego systemu rachunkowości lub korzystania z odpowiedniego kodu rachunkowego, w ramach prowadzonych ksiąg rachunkowych dla wszystkich transakcji związanych z realizacją operacji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tyczy szczególnie płatności realizowanych z wyodrębnionego rachunku bankowego LGD przeznaczonego wyłącznie do obsługi zaliczki/wyprzedzającego finans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bowiązek w tym zakresie powstaje najpóźniej z dniem podpisania umowy o przyznaniu pomocy, a w przypadku kosztów ogólnych – jeżeli poniesione zostały od dnia 1 stycznia 2014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2"/>
          <p:cNvSpPr/>
          <p:nvPr/>
        </p:nvSpPr>
        <p:spPr>
          <a:xfrm>
            <a:off x="733320" y="1916280"/>
            <a:ext cx="77058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. ZESTAWIENIE RZECZOWO-FINANSOWE Z REALIZACJI OPERACJI DLA ETAPU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wypełniania sek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nagłówku sekcji należy wybrać, przy pomocy listy rozwijalnej, numer etapu, w ramach którego składany jest wniosek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ane ujęte w sekcji powinny być zgodne z danymi zawartymi w sekcji V.A wniosku oraz zgodnie z danymi w 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Zestawieniu rzeczowo – finansowym operacji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ędącym załącznikiem nr 1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tabeli należy przenieść wszystkie pozycje ujęte w „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Zestawieniu rzeczowo-finansowym z umowy”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jednak wypełnia się tylko te, które dotyczą danego etapu realizacji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zycje, które nie dotyczą danego etapu operacji należy pozostawić niewypełnio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ole tekstowe 2"/>
          <p:cNvSpPr/>
          <p:nvPr/>
        </p:nvSpPr>
        <p:spPr>
          <a:xfrm>
            <a:off x="733320" y="1916280"/>
            <a:ext cx="7705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I. WARTOŚĆ WSKAŹNIKÓW, KTÓRE ZOSTAŁY OSIĄGNIĘTE W WYNIKU REALIZACJI OPERACJ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7.1 Wskaźniki obowiązkow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ane dotyczące realizacji wskaźników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ą sprawdzane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etapie wniosku o płatność końcow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VIII. ZAŁĄCZNIK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 WNIOSKU O PŁATN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wniosku należy dołączyć załączniki zgodnie z wykaz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leżności od rodzaju załącznika, do wniosku należy załączyć oryginał lub kopię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LGD wraz z wnioskiem przedkłada kopie faktur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yginał faktur  LGD powinna opatrzyć adnotacją „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Przedstawiono do refundacji w ramach PROW na lata 2014-2020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stępnie są skserować i potwierdzić za zgodność z oryginał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yginały faktur, opatrzone powyższą adnotacją pozostają w LGD i mogą podlegać kontroli na miejscu/kontroli na zlecenie/wizyty na miejscu podczas oceny wniosku o płatność albo kontroli w zakresie wypełnienia zobowiązań umownych po wypłacie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ole tekstowe 2"/>
          <p:cNvSpPr/>
          <p:nvPr/>
        </p:nvSpPr>
        <p:spPr>
          <a:xfrm>
            <a:off x="733320" y="1916280"/>
            <a:ext cx="7705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wiązku ze zmianą przepisów prawa powszechnie obowiązującego, załączniki wymienione w Sekcji VIII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Informacja o załącznika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w części A  pkt 5 – 5g dotyczą umów zawartych przed dniem 18 stycz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Beneficjent, który zawarł umowę po dniu 18 stycznia 2017 r. zobowiązany jest wpisać w Sekcji VIII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Informacja o załącznikach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, część B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Inne załączniki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– czyli wymagane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ałączniki do protokołu / protokołów z postępowania o udzielenie zamówienia określone w Zasadach konkurencyjności wydatków w ramach PROW 2014-2020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ole tekstowe 2"/>
          <p:cNvSpPr/>
          <p:nvPr/>
        </p:nvSpPr>
        <p:spPr>
          <a:xfrm>
            <a:off x="733320" y="1916280"/>
            <a:ext cx="7705800" cy="42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Uwaga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niesienie przez LGD kosztów kwalifikowalnych operacji, w tym dokonanie płatności za dostawy, usługi lub roboty budowlane, może nastąpić nie wcześniej, niż 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od dnia zawarcia umowy i nie później niż do terminu złożenia wniosku o płatnoś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 z zastrzeżeniem zachowania terminów o których mowa w § 9 ust. 1 pkt 4 umowy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moc jest przyznawana w formie refundacji kosztów kwalifikowalnych, do których zalicza się kosz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przypadku operacji polegającej na przygotowaniu projektu współpra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jmu sprzętu lub pomieszc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usłu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ymbol zastępczy tekstu 4"/>
          <p:cNvSpPr/>
          <p:nvPr/>
        </p:nvSpPr>
        <p:spPr>
          <a:xfrm>
            <a:off x="949320" y="52380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przypadku operacji polegającej na realizacji projektu współpra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szty ogól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robót budowlanych lub usłu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lub rozwoju oprogramowania komputerowego oraz zakupu patentów, licencji lub wynagrodzeń za przeniesienie autorskich praw majątkowych lub znaków towarowyc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jmu lub dzierżawy maszyn, wyposażenia, sprzętu lub nieruchomośc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nowych maszyn, wyposażenia lub sprzętu, a w przypadku operacji w zakresie zachowania dziedzictwa lokalnego –również używanych maszyn lub wyposażenia, stanowiących eksponat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upu rzeczy innych niż wymienione powyżej, w tym materiał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nagrodzenia i innych świadczeń, o których mowa w ustawie – Kodeks Pracy, związanych z pracą osób koordynujących realizację projektu współprac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 także inne koszty ponoszone przez LGD uczestniczące w realizacji operacji na podstawie         odrębnych przepisów w związku z zatrudnieniem tych osób, które są uzasadnione zakresem operacji, niezbędne do osiągnięcia celu oraz racjonal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ymbol zastępczy tekstu 4"/>
          <p:cNvSpPr/>
          <p:nvPr/>
        </p:nvSpPr>
        <p:spPr>
          <a:xfrm>
            <a:off x="949320" y="52380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SZTY KWALIFIKOWAL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ole tekstowe 2"/>
          <p:cNvSpPr/>
          <p:nvPr/>
        </p:nvSpPr>
        <p:spPr>
          <a:xfrm>
            <a:off x="733320" y="1916280"/>
            <a:ext cx="7705800" cy="46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podlegają refundacji w pełnej wysokości, jeżeli został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niesio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, w którym została zawarta umowa, a w przypadku kosztów ogólnych – od dnia 1 stycznia 2014 r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wyniku wyboru przez LGD wykonawców poszczególnych zadań ujętych w zestawieniu rzeczowo-finansowym operacji z zachowaniem konkurencyjnego trybu ich wyboru określonego w umowi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formie rozliczenia pieniężnego, a w przypadku transakcji, której wartość, bez względu na liczbę wynikających z niej płatności, przekracza 1 tys. złotych – w formie rozliczenia bezgotówkoweg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zględnion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w oddzielnym systemie rachunkowości albo do ich identyfikacji wykorzystano odpowiedni kod rachunkow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KURENCYJ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ole tekstowe 2"/>
          <p:cNvSpPr/>
          <p:nvPr/>
        </p:nvSpPr>
        <p:spPr>
          <a:xfrm>
            <a:off x="468360" y="1773360"/>
            <a:ext cx="805176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lnictwa i Rozwoju Ws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dnia 13.01.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szczegółowych warunków i trybu konkurencyjnego wyboru wykonawców zadań ujętych w zestawieniu rzeczowo-finansowym operacji i warunków dokonywania zmniejszeń kwot pomocy oraz pomocy techniczn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ww.portalogloszen.arimr.gov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BOWIĄZUJĄCE WZORY DOKUMEN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2"/>
          <p:cNvSpPr/>
          <p:nvPr/>
        </p:nvSpPr>
        <p:spPr>
          <a:xfrm>
            <a:off x="468360" y="1969920"/>
            <a:ext cx="797076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niosek o płatność W-1_19.3– wersja 1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rukcja wypełniania wniosku o płatność IW_19.3 wersja 1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33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  <p:sp>
        <p:nvSpPr>
          <p:cNvPr id="136" name="Prostokąt 1"/>
          <p:cNvSpPr/>
          <p:nvPr/>
        </p:nvSpPr>
        <p:spPr>
          <a:xfrm>
            <a:off x="950760" y="3105000"/>
            <a:ext cx="700596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y dostępne są na stronie internetow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o przyznaniu pomocy – wersja 2z obowiązująca od 18.01.2017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rostokąt 2"/>
          <p:cNvSpPr/>
          <p:nvPr/>
        </p:nvSpPr>
        <p:spPr>
          <a:xfrm>
            <a:off x="841320" y="3745080"/>
            <a:ext cx="73818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www.lodzkie.pl/prow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kładc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Formularze wniosków o płatność</a:t>
            </a: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ANKC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ole tekstowe 2"/>
          <p:cNvSpPr/>
          <p:nvPr/>
        </p:nvSpPr>
        <p:spPr>
          <a:xfrm>
            <a:off x="468360" y="1773360"/>
            <a:ext cx="80517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rozpoczęcia realizacji zestawienia rzeczowo-finansowego operacji przed dniem zawarcia umowy, z wyłączeniem kosztów ogólnych, które mogą być ponoszone od dnia 1 stycznia 2014 r.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kosztów kwalifikowalnych operacji pomniejsza się o wartość tych kosztó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wierdzenia finansowania kosztów kwalifikowalnych operacji z udziałem innych środków publicznych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kosztów kwalifikowalnych operacji, pomniejsza się o wartość tych koszt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które zostały sfinansowane z udziałem innych środków publicznyc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realizowania działań informacyjnych i promocyjnych, zgodnie z przepisami Załącznika III do rozporządzenia nr 808/2014 opisanymi w Księdze wizualizacji znaku Programu Rozwoju Obszarów Wiejskich na lata 2014–2020, 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pomocy do wypłaty pomniejsza się o 1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uwzględnienia w oddzielnym systemie rachunkowości, zdarzenia powodującego poniesienie kosztów kwalifikowalnych albo nie wykorzystano odpowiedniego kodu rachunkowego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danego zdarzenia podlegają refundacji w wysokości pomniejszonej o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ANKC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ole tekstowe 2"/>
          <p:cNvSpPr/>
          <p:nvPr/>
        </p:nvSpPr>
        <p:spPr>
          <a:xfrm>
            <a:off x="468360" y="1773360"/>
            <a:ext cx="80517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realizowania zobowiązania dotyczącego wyodrębnionej księgowości w odniesieni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 płatności realizowanych z wyodrębnionego rachunku bankowego przeznaczonego wyłącznie do obsługi zaliczki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</a:rPr>
              <a:t>1)4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/wyprzedzającego finansowania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</a:rPr>
              <a:t>1)6)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szty kwalifikowalne danego zdarzenia podlegają refundacji w wysokości pomniejszonej o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niemożliwienia przeprowadzenia kontroli i wizyt związanych z przyznaną pomocą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rakcie realizacji operacji, po złożeniu wniosku o płatność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niosek o płatność podlega odrzuceniu i w konsekwencji następuje odmowa wypłaty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a w przypadku gdy część pomocy została wcześniej wypłacona 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ównież zwrot dotychczas wypłaconych kwot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przekazywania i nieudostępniania Zarządowi Województwa oraz innym uprawnionym podmiotom danych związanych z operacją, w terminie wynikającym z wezwania do przekazania tych danych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ę pomocy do wypłaty pomniejsza się o 0,5%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podjęcia działań zapewniających utworzenie przynajmniej jednego miejsca pracy, dla którego w ramach wyboru operacji przyznane zostały punkty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stępuje odmowa wypłaty pomoc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ile punkty uzyskane podczas oceny projektu współpracy w ramach kryterium, decydował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zyskaniu minimum 60% punktów możliwych do uzyskania w ramach oceny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rostokąt 2"/>
          <p:cNvSpPr/>
          <p:nvPr/>
        </p:nvSpPr>
        <p:spPr>
          <a:xfrm>
            <a:off x="3059280" y="3357720"/>
            <a:ext cx="53989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Operacja współfinansowana ze środków Unii Europejskiej w ramach Krajowej Sieci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raz 4" descr=""/>
          <p:cNvPicPr/>
          <p:nvPr/>
        </p:nvPicPr>
        <p:blipFill>
          <a:blip r:embed="rId1"/>
          <a:stretch/>
        </p:blipFill>
        <p:spPr>
          <a:xfrm>
            <a:off x="3492360" y="4718160"/>
            <a:ext cx="4751640" cy="511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ymbol zastępczy tekstu 4"/>
          <p:cNvSpPr/>
          <p:nvPr/>
        </p:nvSpPr>
        <p:spPr>
          <a:xfrm>
            <a:off x="841320" y="58428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ole tekstowe 2"/>
          <p:cNvSpPr/>
          <p:nvPr/>
        </p:nvSpPr>
        <p:spPr>
          <a:xfrm>
            <a:off x="468360" y="1969920"/>
            <a:ext cx="797076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niosek może być złożon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z upoważnioną osobę, al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)    przesyłką rejestrowaną nadaną w placówce pocztowej operatora wyznaczonego w rozumieniu    ustawy z dnia 23 listopada 2012 r. – Prawo pocztowe (Dz. U. poz. 1529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złożenia wniosku uważa się za zachowany, jeśli data pieczęci UM – wpływu  nie jest późniejsza niż termin określony w umowie, jednak nie później niż po upływ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2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1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ygotowania projektu współprac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0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2 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realizacji projektu współprac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6 miesięcy od dnia zawarcia umow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, lecz nie później niż do d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1 grudnia 2022 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–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ygotowania połączonego z realizacją projektu współpra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1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ŁOŻ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ole tekstowe 2"/>
          <p:cNvSpPr/>
          <p:nvPr/>
        </p:nvSpPr>
        <p:spPr>
          <a:xfrm>
            <a:off x="468360" y="1969920"/>
            <a:ext cx="7970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niosek składany jest przez LGD umocowaną do działania w imieniu LGD uczestniczących w realizacji operacj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la każdego etapu realizacji operacji należy złożyć oddzielny wniosek (wniosek o płatność pośrednią / wniosek płatność końcową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niezłożenia wniosku w terminie, o którym mowa w § 7 ust. 1 umowy o przyznaniu  pomocy Zarząd Województwa dwukrotnie wzywa LGD do złożenia wniosku, o ile nie upłynęły terminy wskazane w ww. paragrafie umowy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iezłożenie przez LGD wniosku w terminie wynikającym z drugiego wezwania Zarządu Województwa, skutkować będzie wypowiedzeniem umow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a 1"/>
          <p:cNvGrpSpPr/>
          <p:nvPr/>
        </p:nvGrpSpPr>
        <p:grpSpPr>
          <a:xfrm>
            <a:off x="841320" y="3178080"/>
            <a:ext cx="7489800" cy="936720"/>
            <a:chOff x="841320" y="3178080"/>
            <a:chExt cx="7489800" cy="936720"/>
          </a:xfrm>
        </p:grpSpPr>
        <p:sp>
          <p:nvSpPr>
            <p:cNvPr id="147" name="Prostokąt 1"/>
            <p:cNvSpPr/>
            <p:nvPr/>
          </p:nvSpPr>
          <p:spPr>
            <a:xfrm>
              <a:off x="84132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rostokąt 2"/>
            <p:cNvSpPr/>
            <p:nvPr/>
          </p:nvSpPr>
          <p:spPr>
            <a:xfrm>
              <a:off x="84132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ole tekstowe 2"/>
          <p:cNvSpPr/>
          <p:nvPr/>
        </p:nvSpPr>
        <p:spPr>
          <a:xfrm>
            <a:off x="468360" y="1969920"/>
            <a:ext cx="797076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wniosek zawiera braki, Zarząd Województwa wzywa LGD, w formie pisemnej do ich usunięcia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 terminie 21 dni od dnia doręczenia wezwania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pomimo wezwania, LGD nie usunęła braków, Zarząd Województwa ponownie wzywa LGD w formie pisemnej do ich usunięc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terminie 21 dni od dnia doręczenia wez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przesłania usuniętych braków, złożonych wyjaśnień lub poprawnych dokumentów przesyłką rejestrowana nadaną w placówce operatora wyznaczonego,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 terminowości ich złożenia decyduje data stempla pocztowego, a w przypadku ich dostarczenia w innej formie, o terminowości ich złożenia decyduje data wpływu do U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upa 1"/>
          <p:cNvGrpSpPr/>
          <p:nvPr/>
        </p:nvGrpSpPr>
        <p:grpSpPr>
          <a:xfrm>
            <a:off x="539640" y="3178080"/>
            <a:ext cx="7489800" cy="936720"/>
            <a:chOff x="539640" y="3178080"/>
            <a:chExt cx="7489800" cy="936720"/>
          </a:xfrm>
        </p:grpSpPr>
        <p:sp>
          <p:nvSpPr>
            <p:cNvPr id="153" name="Prostokąt 1"/>
            <p:cNvSpPr/>
            <p:nvPr/>
          </p:nvSpPr>
          <p:spPr>
            <a:xfrm>
              <a:off x="539640" y="3178080"/>
              <a:ext cx="7489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rostokąt 2"/>
            <p:cNvSpPr/>
            <p:nvPr/>
          </p:nvSpPr>
          <p:spPr>
            <a:xfrm>
              <a:off x="539640" y="3745080"/>
              <a:ext cx="67690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ZPATRZENIE WNIOS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ole tekstowe 2"/>
          <p:cNvSpPr/>
          <p:nvPr/>
        </p:nvSpPr>
        <p:spPr>
          <a:xfrm>
            <a:off x="733320" y="1916280"/>
            <a:ext cx="770580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rakcie weryfikacji wniosku mogą zostać przeprowadzone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izyty w miejscu lub kontrole na miejscu oraz kontrole w trybie art. 46 ust. 1 pkt 1 ustawy z dnia 20 lutego 2015 r.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wspieraniu rozwoju obszarów wiejskich z udziałem środków Europejskiego Funduszu Rolnego na rzecz Rozwoju Obszarów Wiejskich w ramach Programu Rozwoju Obszarów Wiejskich na lata 2014-2020 (Dz. U. poz. 349) w celu zweryfikowania zgodności informacji zawartych we wniosku i dołączonych do niego dokumentach ze stanem faktycznym lub uzyskania dodatkowych wyjaśni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zwłocznie po pozytywnym rozpatrzeniu wniosku dokonuje się wypłaty środków finansowych z tytułu pomocy, lecz nie później niż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terminie 3 miesięcy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 jego złożenia. Do terminu tego nie wlicza się okresu przeznaczonego na usunięcie braków / złożenie wyjaśni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wa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GD powinna udokumentować rzeczywiste osiągnięcie celu operacji wskazanego umowie oraz prawidłowe, zgodne z przeznaczeniem wykorzystanie inwestycji objętej wnioski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. CZĘŚĆ OGÓLN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1. Cel złożenia formularza wniosku o płatn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łożenie wnios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rekta wniosk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cofanie wniosku w czę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2. Wniosek dotyczy operacji polegającej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 rodzaj opera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ygotowanie projektu współp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acja projektu współp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ygotowanie połączone z realizacja projektu współp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ole tekstowe 2"/>
          <p:cNvSpPr/>
          <p:nvPr/>
        </p:nvSpPr>
        <p:spPr>
          <a:xfrm>
            <a:off x="733320" y="1916280"/>
            <a:ext cx="770580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3. Etap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, odpowiedź z listy pomocniczej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) I etap, b) II etap, c) III etap, d) IV etap, e) V eta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4. Rodzaj płat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ybrać, przy pomocy listy rozwijalnej, odpowiedź z listy pomocnicze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łatność pośredni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łatność końcow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I. DANE IDENTYFIKACYJNE LGD UMOCOWANEJ DO DZIAŁANIA W IMIENIU LGD UCZESTNICZĄCYCH W REALIZACJI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j sekcji należy wpisać dane LGD, która jest umocowana do działania w imieniu pozostałych LG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ORMULARZ WNIOSKU O PŁATNOŚ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2"/>
          <p:cNvSpPr/>
          <p:nvPr/>
        </p:nvSpPr>
        <p:spPr>
          <a:xfrm>
            <a:off x="733320" y="1916280"/>
            <a:ext cx="770580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II. DANE Z UMOWY O PRZYZNANIU POMO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 DANE DOTYCZĄCE WNIOSKU O PŁATNOŚĆ DLA PROJEKTU WSPÓŁP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d wypełnieniem tej sekcji, zaleca się wypełnić sekcję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A wniosku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Pola 2 – 7  powinny być zgodne z sumą  kwot podanych w sekcji IV.A wniosk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V.A. DANE PARTNERÓW (LGD) UBIEGAJĄCYH SIĘ O PŁATNOŚĆ W DANYM ETAPIE OPE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ekcję należy powielić i wypełnić w liczbie odpowiadającej liczbie LGD (partnerów) ubiegających się o płatność w danym etapie oper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e 1. Dane identyfikacyjne Partnera n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leży wpisać numer partnera nadany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7"/>
          <p:cNvSpPr/>
          <p:nvPr/>
        </p:nvSpPr>
        <p:spPr>
          <a:xfrm>
            <a:off x="2987640" y="5322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9" descr="C:\Users\anna.wlodarczyk1\Desktop\Pasek kolor.JPG"/>
          <p:cNvPicPr/>
          <p:nvPr/>
        </p:nvPicPr>
        <p:blipFill>
          <a:blip r:embed="rId1"/>
          <a:stretch/>
        </p:blipFill>
        <p:spPr>
          <a:xfrm>
            <a:off x="4838760" y="5921280"/>
            <a:ext cx="3262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Katarzyna Kudelska</cp:lastModifiedBy>
  <cp:lastPrinted>2013-10-21T07:28:16Z</cp:lastPrinted>
  <dcterms:modified xsi:type="dcterms:W3CDTF">2017-12-06T08:02:54Z</dcterms:modified>
  <cp:revision>1083</cp:revision>
  <dc:subject/>
  <dc:title>Slajd 1</dc:title>
</cp:coreProperties>
</file>