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1A2E-1295-479F-980F-5A11E7BB9A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532C-E12C-44E4-A667-DF15BBA3B3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5DAE-ED19-43BC-BD87-B48C805F5A31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4A65-8067-49BD-860E-901FA285F58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820800"/>
            <a:ext cx="7777080" cy="28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naborów wniosków na projekty grantowe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 ramach poddziałania 19.2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 zgodności operacji z celami przekrojowymi tj. innowacyjność, klimat, środowisko. (Jeśli już LGD zaznaczyła, że projekt realizuje cel przekrojowe to należy opisać w jaki sposób cele te są realizowa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czegółowy opis zadań zbyt ogólnikowy (dobrą praktyką jest np. wykorzystanie szczegółowego opisu zadań z dawnych małych projektó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dokumentów uzasadniających wysokość planowanych do poniesienia kosz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rak uzasadnień dotyczących niekomercyjnego charakteru operacji (w najnowszej wersji wniosku w przypadku, gdy operacja będzie realizowana w zakresi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woju ogólnodostępnej i niekomercyjnej infrastruktury turystycznej lub rekreacyjnej, lub kulturalnej należy załączyć NPV dla każdego zadania – grant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ależności od charakteru projektu brak w opisie operacji szczegółowych informacji dot. np. szkoleń czy warsztatów (miejsce realizacji, termin, grupa docelowa, program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1"/>
          <p:cNvSpPr/>
          <p:nvPr/>
        </p:nvSpPr>
        <p:spPr>
          <a:xfrm>
            <a:off x="473040" y="1628640"/>
            <a:ext cx="8209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przeprowadzenia oceny spełniania przez grantobiorców warunków, o których mowa w § 13 ust. 1 pkt 4 – 6 rozporządzenia – dla każdego zadania oddzielnie – nowa wersja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nty zostaną udzielone grantobiorcom na podstawie umowy o powierzenie grantu, do wysokości limitu, który wynosi 100 tys. złotych na jednego grantobiorcę w ramach projektów grantowych realizowanych przez daną LGD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a grantów planowanych do udzielenia jednostkom sektora finansów publicznych w ramach danego projektu grantowego nie przekracza 20% kwoty pomocy na ten projek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)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y grantobiorca spełnia warunki określone w § 3 ust. 1 lub 4 i § 4 ust. 1 pkt 4 i 7 oraz nie wykonuje działalności gospodarczej, z tym że w przypadku grantobiorcy, który zgodnie ze swoim statutem w ramach swojej struktury organizacyjnej powołał jednostki organizacyjne, takie jak sekcje lub koła, pomoc jest przyznawana nawet gd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a)  warunek określony w § 3 ust. 1 pkt 2 nie jest spełniony, jeżeli obszar działalności grantobiorcy i jego jednostki organizacyjnej pokrywa się z obszarem wiejskim objętym LSR, a realizacja zadania, na które jest udzielany grant, jest związana z przedmiotem działalności danej jednostki organizacyjne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) grantobiorca wykonuje działalność gospodarczą, jeżeli realizacja zadania, na które jest udzielany grant, nie jest związana z przedmiotem tej działalności, ale jest związana z przedmiotem działalności jednostki organizacyjnej grantobior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rostokąt 1"/>
          <p:cNvSpPr/>
          <p:nvPr/>
        </p:nvSpPr>
        <p:spPr>
          <a:xfrm>
            <a:off x="468360" y="198900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o własności do nieruchomości: brak lub zbyt krótki c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fekt deadweight: wypełnienie w zbyt optymistyczny sposób powoduje odrzucenie wnios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łoszenia, pozwolenia: brak potwierdzenia że właściwy organ nie wniósł sprzeciwu lub brak ostatecznej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1"/>
          <p:cNvSpPr/>
          <p:nvPr/>
        </p:nvSpPr>
        <p:spPr>
          <a:xfrm>
            <a:off x="431640" y="765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łędy we wnioskach grant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rostokąt 1"/>
          <p:cNvSpPr/>
          <p:nvPr/>
        </p:nvSpPr>
        <p:spPr>
          <a:xfrm>
            <a:off x="468360" y="199692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rantobiorców, którzy realizowali wcześniej jakiś projekt np. MP należy zwrócić uwagę na okres związania z celem poprzedniego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odrębniony rachunek bankowy dot. wyprzedzającego finansowania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LGD, które ubiegają się o pożyczę z BGK – uczulamy na wcześniejsze zbadanie tema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"/>
          <p:cNvSpPr/>
          <p:nvPr/>
        </p:nvSpPr>
        <p:spPr>
          <a:xfrm>
            <a:off x="431640" y="765000"/>
            <a:ext cx="82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 co należy zwrócić uwagę składając wnio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22640"/>
            <a:ext cx="3402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58Z</dcterms:modified>
  <cp:revision>897</cp:revision>
  <dc:subject/>
  <dc:title>Slajd 1</dc:title>
</cp:coreProperties>
</file>