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108B-43DC-43E1-A344-D56A05B547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571B-BE59-4D4B-A8F4-C1370172C4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7949-BD63-49F0-9B4B-E886E02A570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CBD6-1D84-4865-9463-43180940A92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51000"/>
            <a:ext cx="7777080" cy="19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Najczęściej występujące błędy w naborach wniosków w ramach poddziałania 19.2</a:t>
            </a: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ymbol zastępczy tytułu 8"/>
          <p:cNvSpPr/>
          <p:nvPr/>
        </p:nvSpPr>
        <p:spPr>
          <a:xfrm>
            <a:off x="468360" y="4724280"/>
            <a:ext cx="359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Smardzewice, dnia 7-8 grudnia 2017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4"/>
          <p:cNvSpPr/>
          <p:nvPr/>
        </p:nvSpPr>
        <p:spPr>
          <a:xfrm>
            <a:off x="4156200" y="4195800"/>
            <a:ext cx="4370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Europejski Fundusz Rolny na rzecz Rozwoju Obszarów Wiejskich: Europa inwestująca w obszary wiejskie”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Materiał opracowany przez Urząd Marszałkowski Województwa Łódz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nstytucja Zarządzająca PROW na lata 2014-2020 – Minister Rolnictwa </a:t>
            </a:r>
            <a:br>
              <a:rPr sz="1000"/>
            </a:b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i Rozwoju Ws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ffff"/>
                </a:solidFill>
                <a:latin typeface="Calibri"/>
              </a:rPr>
              <a:t>Projekt współfinansowany ze środków Unii Europejskiej w ramach Pomocy Technicznej Programu Rozwoju Obszarów Wiejskich na lata 2014-20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4156200" y="3603600"/>
            <a:ext cx="449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41440" y="1774800"/>
            <a:ext cx="7991280" cy="16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60320" y="3789360"/>
            <a:ext cx="7553520" cy="1797120"/>
          </a:xfrm>
          <a:prstGeom prst="rect">
            <a:avLst/>
          </a:prstGeom>
          <a:ln w="0">
            <a:noFill/>
          </a:ln>
        </p:spPr>
      </p:pic>
      <p:sp>
        <p:nvSpPr>
          <p:cNvPr id="207" name="Łącznik prostoliniowy 7"/>
          <p:cNvSpPr/>
          <p:nvPr/>
        </p:nvSpPr>
        <p:spPr>
          <a:xfrm>
            <a:off x="2340000" y="357336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oliniowy 7"/>
          <p:cNvSpPr/>
          <p:nvPr/>
        </p:nvSpPr>
        <p:spPr>
          <a:xfrm>
            <a:off x="2341440" y="371628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1552680" y="1773360"/>
            <a:ext cx="5646600" cy="1774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6264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Łącznik prostoliniowy 7"/>
          <p:cNvSpPr/>
          <p:nvPr/>
        </p:nvSpPr>
        <p:spPr>
          <a:xfrm>
            <a:off x="2341440" y="299736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7440" cy="530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574560" y="3429000"/>
            <a:ext cx="8031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19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Łącznik prostoliniowy 7"/>
          <p:cNvSpPr/>
          <p:nvPr/>
        </p:nvSpPr>
        <p:spPr>
          <a:xfrm>
            <a:off x="2340000" y="4437000"/>
            <a:ext cx="41050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7960" y="4522680"/>
            <a:ext cx="7993080" cy="13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1440000" y="1670040"/>
            <a:ext cx="590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24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39640" y="1674720"/>
            <a:ext cx="583272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"/>
          <p:cNvSpPr/>
          <p:nvPr/>
        </p:nvSpPr>
        <p:spPr>
          <a:xfrm>
            <a:off x="6372360" y="2314440"/>
            <a:ext cx="216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ie są już przekazywane do S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sty operacji wybranych i zgodnych z LSR -będą pobierane ze strony www L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klaracje bezstronności – co nie zwalnia z ich wypełni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280" y="1267920"/>
            <a:ext cx="81914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ole tekstowe 1"/>
          <p:cNvSpPr/>
          <p:nvPr/>
        </p:nvSpPr>
        <p:spPr>
          <a:xfrm>
            <a:off x="2771640" y="6568920"/>
            <a:ext cx="184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ole tekstowe 2"/>
          <p:cNvSpPr/>
          <p:nvPr/>
        </p:nvSpPr>
        <p:spPr>
          <a:xfrm>
            <a:off x="604800" y="1844640"/>
            <a:ext cx="7705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godność z celami i wskaźnikami (karty oc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znaczenia celów ogólnych i/lub celów szczegółowych i/lub wskaźników produktu i/lub wskaźników rezultatu (omył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"/>
          <p:cNvSpPr/>
          <p:nvPr/>
        </p:nvSpPr>
        <p:spPr>
          <a:xfrm>
            <a:off x="628560" y="378936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atyczna śred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2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7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3"/>
          <p:cNvSpPr/>
          <p:nvPr/>
        </p:nvSpPr>
        <p:spPr>
          <a:xfrm>
            <a:off x="684360" y="177336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y techniczne spowodowane wadliwością systemu lub błędnym wprowadzeniem do syst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4"/>
          <p:cNvSpPr/>
          <p:nvPr/>
        </p:nvSpPr>
        <p:spPr>
          <a:xfrm>
            <a:off x="873000" y="3716280"/>
            <a:ext cx="7417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formowanie Wnioskodawców o wyniku wy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e oceny poszczególnych kryteriów, zgodn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LSR, ustalonej kwoty wspa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aściwe pouczenie o prote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5"/>
          <p:cNvSpPr/>
          <p:nvPr/>
        </p:nvSpPr>
        <p:spPr>
          <a:xfrm>
            <a:off x="2411280" y="353700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"/>
          <p:cNvSpPr/>
          <p:nvPr/>
        </p:nvSpPr>
        <p:spPr>
          <a:xfrm>
            <a:off x="917640" y="1557360"/>
            <a:ext cx="7272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ierwsze strony wnios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% ustalony przez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i lub oczywiste błę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zasadnienia zgodności z cel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5"/>
          <p:cNvSpPr/>
          <p:nvPr/>
        </p:nvSpPr>
        <p:spPr>
          <a:xfrm>
            <a:off x="900000" y="4149720"/>
            <a:ext cx="72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dura oceny i wyboru a Regulamin R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upy interesu w Regulaminie 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lejność na liście rankingowej – ta sama liczba punk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Łącznik prostoliniowy 5"/>
          <p:cNvSpPr/>
          <p:nvPr/>
        </p:nvSpPr>
        <p:spPr>
          <a:xfrm>
            <a:off x="2411280" y="3933720"/>
            <a:ext cx="410544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3"/>
          <p:cNvSpPr/>
          <p:nvPr/>
        </p:nvSpPr>
        <p:spPr>
          <a:xfrm>
            <a:off x="539640" y="1773360"/>
            <a:ext cx="7993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ustalenia kwoty wspar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zaokrąglania kwot do pełnych zło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stosowanie właściwego poziomu do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lona kwota wsparcia według pozostałych środków w nabo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ożna „wciskać” operację w limit o ile wskazano zapisy w procedur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3"/>
          <p:cNvSpPr/>
          <p:nvPr/>
        </p:nvSpPr>
        <p:spPr>
          <a:xfrm>
            <a:off x="561960" y="1844640"/>
            <a:ext cx="78976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wytycznej 6/4/2017 lub wcześniejs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w zakresie zgodności z P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ytuły pra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umowy wstępne, przyrzeczenie zawarcie umowy, umowy zawarte nie przez wszystkich właścicieli, brak oświadczeń właścicieli/współwłaścicieli, okres nie zapewnia zapewnienia celu w okresie trwałoś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ość z ustawą o swobodzie działalności gospodarczej (podejmowanie i rozwij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e, zasoby, kwalifikacje, prowadzenie działal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2"/>
          <p:cNvSpPr/>
          <p:nvPr/>
        </p:nvSpPr>
        <p:spPr>
          <a:xfrm>
            <a:off x="1149480" y="76500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jczęściej występujące błę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1"/>
          <p:cNvSpPr/>
          <p:nvPr/>
        </p:nvSpPr>
        <p:spPr>
          <a:xfrm>
            <a:off x="684360" y="2274840"/>
            <a:ext cx="7704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stosowanie zapisów rozporządzenia/u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kład własny jsfp to wkład krajowych środków publicz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wota kosztów kwalifikowalnych jsfp obciąża limit środ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łoszeni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na dokonanie wyboru, na przekazanie do 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"/>
          <p:cNvSpPr/>
          <p:nvPr/>
        </p:nvSpPr>
        <p:spPr>
          <a:xfrm>
            <a:off x="3556800" y="7650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Term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1"/>
          <p:cNvSpPr/>
          <p:nvPr/>
        </p:nvSpPr>
        <p:spPr>
          <a:xfrm>
            <a:off x="684360" y="206064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Ustawy R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2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2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miana rozporządzenia 1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szła w życie 9 września 2017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bowiązuje dla naborów, które rozpoczęły bieg 9 września lub późni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tyczna 6/4/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owiązuje od 1 grudnia 2017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lub wcześniej o ile LGD dostosowały swoje proced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6" descr=""/>
          <p:cNvPicPr/>
          <p:nvPr/>
        </p:nvPicPr>
        <p:blipFill>
          <a:blip r:embed="rId1"/>
          <a:stretch/>
        </p:blipFill>
        <p:spPr>
          <a:xfrm>
            <a:off x="5757840" y="5937120"/>
            <a:ext cx="288288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2"/>
          <p:cNvSpPr/>
          <p:nvPr/>
        </p:nvSpPr>
        <p:spPr>
          <a:xfrm>
            <a:off x="1185480" y="765000"/>
            <a:ext cx="65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tyczna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6/4/2017 - nowości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542880" y="2924280"/>
            <a:ext cx="7840800" cy="124920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2"/>
          <p:cNvSpPr/>
          <p:nvPr/>
        </p:nvSpPr>
        <p:spPr>
          <a:xfrm>
            <a:off x="2069280" y="213372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eklaracje bezstronności i pouf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6-08-26T06:50:38Z</cp:lastPrinted>
  <dcterms:modified xsi:type="dcterms:W3CDTF">2017-12-06T06:40:31Z</dcterms:modified>
  <cp:revision>906</cp:revision>
  <dc:subject/>
  <dc:title>Slajd 1</dc:title>
</cp:coreProperties>
</file>