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3D0-7619-4BD0-A1FA-1D780BF2F7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D2F-9E73-42BB-A496-97EE2427E0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E017-6109-4585-85FB-9D3BD66FFC64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1186-2F05-4D23-81EA-2640AB643AA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035000"/>
            <a:ext cx="777708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lokalnych grupach działania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korzystanie budż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budżetu  w poszczególnych LGD (średnia: 54,08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  <p:sp>
        <p:nvSpPr>
          <p:cNvPr id="211" name="pole tekstowe 2"/>
          <p:cNvSpPr/>
          <p:nvPr/>
        </p:nvSpPr>
        <p:spPr>
          <a:xfrm>
            <a:off x="1116000" y="5861160"/>
            <a:ext cx="46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uwzględnieniem płatności, umów, naborów zakończonych, rozpoczętych, ogłoszonych i protes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419040" y="1700280"/>
            <a:ext cx="8221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okalne grupy działania z województwa łódzkiego złożyły w UMW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736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weryfikacji zostały przekazane (w tym z nieuzupełnionych nabor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24 wnio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częto weryfikację dl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35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pisano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0 um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zucono lub pozostawiono bez rozpatrzenia około (zmiany dynamicz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40 wniosk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zakre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ole tekstowe 2"/>
          <p:cNvSpPr/>
          <p:nvPr/>
        </p:nvSpPr>
        <p:spPr>
          <a:xfrm>
            <a:off x="419040" y="1700280"/>
            <a:ext cx="822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rodzaj beneficjen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powi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e grupy działania z województwa łódzkiego ogłosi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3 996 687,8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751 943,1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zędu Marszałkowskiego Województwa Łódzkiego wpłynęły wnioski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na kwo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4 081 778,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 (z wszystkich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borów grantowych na kwotę: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 827 311,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t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wniosków złożonych i weryfikowalnych w podziale na L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nioski 1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04720" y="1628640"/>
          <a:ext cx="8064720" cy="4210200"/>
        </p:xfrm>
        <a:graphic>
          <a:graphicData uri="http://schemas.openxmlformats.org/drawingml/2006/table">
            <a:tbl>
              <a:tblPr/>
              <a:tblGrid>
                <a:gridCol w="576360"/>
                <a:gridCol w="6915240"/>
                <a:gridCol w="573120"/>
              </a:tblGrid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erwacja i naprawa pojazdów samochodowych, z wyłączeniem motocyk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gotowanie terenu pod budow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kty noclegowe turystyczne i miejsca krótkotrwałego zakwaterow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yzjerstwo i pozostałe zabiegi kosmety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je i inne stał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3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usługowa związana z zagospodarowaniem terenów ziele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90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izjoterapeuty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inżynierii i związane z nią doradztwo techn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chaniczna elementów metal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rozrywkowa i rekreacyj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a działalność usługowa, gdzie indziej niesklasyfiko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ieczywa; produkcja świeżych wyrobów ciastkarskich i cias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wodno-kanalizacyjnych, cieplnych, gazowych i klimatyzac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specjalistyczne roboty budowlane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w zakresie architek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óbka metali i nakładanie powłok na me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meb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wyrobów tarta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9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cja pozostałych wyrobów z drewna; produkcja wyrobów z korka, słomy i materiałów używanych do wypla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nywanie instalacji elektrycz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59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ostałe pozaszkolne formy edukacji, gdzie indziej niesklasyfikow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10.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home placówki gastronomicz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związana z produkcją filmów, nagrań wideo i programów telewizyj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11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agencji reklamow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20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lność fotograficz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32.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ajem i dzierżawa maszyn i urządzeń budowlan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05040" y="620640"/>
            <a:ext cx="32353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kresy naborów gran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resy naborów grantowych, dla których wnioski zostały złożone w UWM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86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0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lość naborów grantow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lość naborów grantow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ogłoszonych naborów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z naborów zwykłych w L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1700280"/>
            <a:ext cx="82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ota z naborów zwykłych ogłoszonych w poszczególnych LG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02" name="Wykres 1" descr=""/>
          <p:cNvPicPr/>
          <p:nvPr/>
        </p:nvPicPr>
        <p:blipFill>
          <a:blip r:embed="rId2"/>
          <a:stretch/>
        </p:blipFill>
        <p:spPr>
          <a:xfrm>
            <a:off x="488880" y="2049480"/>
            <a:ext cx="8094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4:30Z</dcterms:modified>
  <cp:revision>902</cp:revision>
  <dc:subject/>
  <dc:title>Slajd 1</dc:title>
</cp:coreProperties>
</file>