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28D6-E3BC-4434-A49A-93A5DB4675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DBE1-FD9F-457C-A26B-5F7920C51C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32EC-26EB-4BD0-A173-B6C6DECCAE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6B2F-80FA-4FC9-8395-EA621FAB8E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142-6440-4DD4-93A7-622CC0876E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5F1-8A1E-4F7B-A5E8-265720B2FF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40A-A217-4E5F-B949-B941939548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2D3-D2B7-453C-9771-12E11036F7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5151-2F1F-48C9-B2F9-3655FF1BE7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CCDE-8FAE-4B04-B439-5BDD9C0A86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A76C-C0E4-4D15-8E8C-BDA8A4E779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6E20-4B2D-4A2D-91BF-7243A4FCCA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58E3-76A8-4EF8-A5C3-7257C55208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045-A5A3-425F-B109-3191EC995DD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91E5-4CAE-4DA6-B56E-5CD90CB7F5D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189080"/>
            <a:ext cx="777708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odsumowanie kontroli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lecenia pokontrolne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bre przykłady.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chrona danych osobowy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078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zkoleniach i przeprowadzonym doradztwie wskazane jest badanie satysfakcji uczestników w formie ank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ość stron internetowych LGD, pozwalające sprawnie uzyskać informacje np. deklaracja członkostwa powinna być od razu widocz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bre praktyk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419040" y="170028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jrzyste procedury, kryteria i rejestry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howywanie dokumentów – zabezpieczone dokume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doczne oznakowanie biura i godzin pracy umieszczone na zewnątrz budy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ście prowadzone strony internetowe pozwalające na sprawne uzyskanie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chrona danych osobowy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419040" y="1700280"/>
            <a:ext cx="8221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żda LGD powinna mieć Politykę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enie AB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jestr osób upoważnionych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a imienne dla pracowników oraz członków Rady do przetwarzania danych osobow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poważnienie do przetwarzania danych osobowych nie jest jednoznaczne z deklaracją bezstronności i poufności (członkowie Rady i pracownicy LGD winni posiadać upoważnienia do przetwarzania danych oraz podpisywać w/w deklaracj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e z ustawą zabezpieczenie danych osobowych, w  tym właściwe przechowywanie dokument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yskiwanie zgody wnioskodawców na przetwarzanie ich danych osob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76640" y="3716280"/>
            <a:ext cx="33753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1700280"/>
            <a:ext cx="8221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dzień 30.11.2017 r. przeprowadzono i zakończono kontrolę w 8 LGD, pozostałe 8 LGD będą skontrolowane do końca 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dmiot kontroli – Zobowiązania wynikające  z § 5 Umowy Ramowej tj. m.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ałanie i utrzymanie biura (godziny pracy umieszcz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docznym miejscu przed biurem oraz na stronie internetowej), zabezpieczenie biura i dokumentów, Polityka bezpieczeństw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acownicy (kwalifikacje,  świadczenie prac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kolenia pracowników i członków rady decyzyjnej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trzymanie i aktualizacja strony internet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ezpłatne świadczenie doradztwa (rejestry, ankiety satysfakcj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Podsumowanie kontro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419040" y="1700280"/>
            <a:ext cx="822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wszechnianie  informacji o zasadach przyznawania pomocy poprzez szkolenia, stronę internetową oraz kontakt telefonicz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ezpośredni (ankiety, oceny szkole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bory (próba losowo wybranych wnioskó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procedur do nabor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R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osowanie regulaminu Biu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tut, członkostwo w LGD – zapewnienie swobodnego dostępu do członko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190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potwierdzanie za zgodność z oryginałem dokumentów oraz informowanie wnioskodawców o prawidłowym potwierdzaniu za zgodność przez wymienione w Rozporządzeniu podmi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twierdzanie za zgodnoś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2"/>
          <p:cNvSpPr/>
          <p:nvPr/>
        </p:nvSpPr>
        <p:spPr>
          <a:xfrm>
            <a:off x="4078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idłowe sporządzanie listy operacji wybranych, jeżeli operacje  są zgodne z LSR a nie mieszczą się w limicie winny się znaleźć na liście operacji wybranych z adnotacją „ nie mieści się w limic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5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Listy oper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43668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zewnictwo w tytułowaniu uchwał – nieprawidłowo zatytułowane np. Uchwala w sprawie wybrania operacji… ,natomiast w treści dokumentu zapis „operacja nie została wybrana do finansowani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ytuły uchwa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41436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telne i przejrzyste sporządzanie rejestru interes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rócenie uwagi na spójność dokumentów – np. dane z protokołu niezgodne z danymi w uchwał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ułowanie dokumentów w ten sposób aby na ostatniej stronie nie znajdowały się tylko pod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39528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 szkoleń – założenia adekwatne do możliwości real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eria wyboru – powinny być ustalane w sposób zrozumiały, realny i nie budujący wątpliwości z punktu widzenia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ole tekstowe 1"/>
          <p:cNvSpPr/>
          <p:nvPr/>
        </p:nvSpPr>
        <p:spPr>
          <a:xfrm>
            <a:off x="431640" y="765000"/>
            <a:ext cx="821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Zalecenia pokontrol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419040" y="2708280"/>
            <a:ext cx="822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egulowania dotyczące uzyskania przez dwu lub więcej wnioskodawców identycznej liczby punktów – jeżeli znaczenie ma godzina przyjęcia wniosku – należy wpisać dokładną godzinę przyjęcia wniosku (zdarzały się sytuacje, iż w LGD przyjęto kilka wniosków o dokładnie tej samej godzin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"/>
          <p:cNvSpPr/>
          <p:nvPr/>
        </p:nvSpPr>
        <p:spPr>
          <a:xfrm>
            <a:off x="431640" y="165564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ozostał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6:13:34Z</dcterms:modified>
  <cp:revision>912</cp:revision>
  <dc:subject/>
  <dc:title>Slajd 1</dc:title>
</cp:coreProperties>
</file>