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7BA5-4E25-4B47-8465-F9BF73D7DD4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921D-4841-4276-B314-6843CD6ABA4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 czym wnioskodawca jest informowany na piśmie odpowiednio przez LGD, za pośrednictwem której wniesiono protest, albo przez zarząd województwa, a informacja ta zawiera pouczenie o możliwości wniesienia skargi do sądu administracyjneg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waga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przez „dany cel LSR”, o którym mowa w art. 22 ust. 8 pkt 3 ustawy RLKS, należy rozumieć cel ogólny LS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4082-8F94-49FD-ABC9-5D758F94D94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1EDB-207E-414F-A762-2ADAB861F21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05E6-8664-4EB4-963C-B5D8E735172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f497d"/>
                </a:solidFill>
                <a:latin typeface="Calibri"/>
              </a:rPr>
              <a:t>Od niektórych </a:t>
            </a:r>
            <a:r>
              <a:rPr b="0" lang="pl-PL" sz="1200" spc="-1" strike="noStrike">
                <a:solidFill>
                  <a:srgbClr val="1f497d"/>
                </a:solidFill>
                <a:latin typeface="Calibri"/>
              </a:rPr>
              <a:t>– nie od wszystkich (sugeruje to już sam fakt, że tylko w niektórych pismach do wnioskodawców dołącza się pouczenie o prawie do protest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B5AF-347F-4944-8276-6D0DD5DFB70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test jest wnoszony w formie pisemnej i zawier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 7 d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) do którego zarządu województwa należy skierować protest i za pośrednictwem której LG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znaczenie wnioskodawcy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numer wniosku o dofinansowanie projektu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skazanie kryteriów wyboru projektów, z których oceną wnioskodawca się nie zgadza, wraz z uzasadnienie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skazanie zarzutów o charakterze proceduralnym w zakresie przeprowadzonej oceny, jeżeli zdaniem wnioskodawcy naruszenia takie miały miejsce, wraz z uzasadnienie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negatywnej oceny zgodności operacji z LSR wskazanie, w jakim zakresie podmiot ubiegający się o wsparcie nie zgadza się z tą oceną, oraz uzasadnieni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ustalenia przez LGD kwoty wsparcia niższej niż wnioskowana wskazanie, w jakim zakresie podmiot ubiegający się o wsparcie  nie zgadza się z tym ustaleniem, oraz uzasadnieni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dpis wnioskodawcy lub osoby upoważnionej do jego reprezentowania, z załączeniem oryginału lub kopii dokumentu poświadczającego umocowanie takiej osoby do reprezentowania wnioskodaw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0D3E-4352-44ED-8550-96D589ECB32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(art. 54 ust. 2-6 ustawy PS w zw. z art. 22 ust. 3 i 4 ustawy RLK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CA9A-B6A5-4871-B268-D2FDBED7FB7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wniesienia protestu niespełniającego ww. wymogów formalnych lub zawierającego oczywiste omyłki, właściwa instytucja </a:t>
            </a:r>
            <a:r>
              <a:rPr b="1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ROBI TO LGD, EWENTUALNIE ZW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zywa wnioskodawcę do jego uzupełnienia lub poprawienia w nim oczywistych omyłek, w terminie 7 dni, licząc od dnia otrzymania wezwania, pod rygorem pozostawienia protestu bez rozpatrzen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6955-CBBD-4703-B533-003A8C3C9D5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7B9B-DE1E-43CB-BEB3-C02D48A4FB8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 u="sng">
                <a:solidFill>
                  <a:srgbClr val="ff0000"/>
                </a:solidFill>
                <a:uFillTx/>
                <a:latin typeface="Calibri"/>
              </a:rPr>
              <a:t>21</a:t>
            </a:r>
            <a:r>
              <a:rPr b="0" lang="pl-PL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lbo </a:t>
            </a:r>
            <a:r>
              <a:rPr b="1" lang="pl-PL" sz="1200" spc="-1" strike="noStrike" u="sng">
                <a:solidFill>
                  <a:srgbClr val="ff0000"/>
                </a:solidFill>
                <a:uFillTx/>
                <a:latin typeface="Calibri"/>
              </a:rPr>
              <a:t>45</a:t>
            </a:r>
            <a:r>
              <a:rPr b="0" lang="pl-PL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ni od dnia jego otrzyman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C013-0233-4414-A24C-9EB1565D7BD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rząd województwa, rozpatruje protest, weryfikując prawidłowość oceny operacji w zakresie kryteriów i zarzutów podnoszonych w proteście, w terminie nie dłuższym niż 30 dni, licząc od dnia jego otrzymania. W uzasadnionych przypadkach, w szczególności gdy w trakcie rozpatrywania protestu konieczne jest skorzystanie z pomocy ekspertów, termin rozpatrzenia protestu może być przedłużony, o czym zarząd województwa informuje na piśmie wnioskodawcę. Termin rozpatrzenia protestu nie może przekroczyć łącznie 60 dni od dnia jego otrzyman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37B3-E3F7-41C4-B3D9-2D491E0E786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DEE5-ECDC-4867-BE15-F99C9667529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CA52-F7A2-4F72-B51D-79ED44D8C5DF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280" y="1204920"/>
            <a:ext cx="7777080" cy="20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Procedura odwoławcza od rozstrzygnięć LGD w klasycznej ścieżce konkursowej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PROTEST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ymbol zastępczy tytułu 8"/>
          <p:cNvSpPr/>
          <p:nvPr/>
        </p:nvSpPr>
        <p:spPr>
          <a:xfrm>
            <a:off x="468360" y="4724280"/>
            <a:ext cx="3598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Smardzewice, dnia 7/8 grud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ole tekstowe 4"/>
          <p:cNvSpPr/>
          <p:nvPr/>
        </p:nvSpPr>
        <p:spPr>
          <a:xfrm>
            <a:off x="4156200" y="4195800"/>
            <a:ext cx="4370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Projekt współfinansowany ze środków Unii Europejskiej w ramach Pomocy Technicznej Programu Rozwoju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raz 2" descr=""/>
          <p:cNvPicPr/>
          <p:nvPr/>
        </p:nvPicPr>
        <p:blipFill>
          <a:blip r:embed="rId1"/>
          <a:stretch/>
        </p:blipFill>
        <p:spPr>
          <a:xfrm>
            <a:off x="4156200" y="360360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ymbol zastępczy tekstu 4"/>
          <p:cNvSpPr/>
          <p:nvPr/>
        </p:nvSpPr>
        <p:spPr>
          <a:xfrm>
            <a:off x="468360" y="561960"/>
            <a:ext cx="79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zostawienie protestu bez rozpatrz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cc00"/>
                </a:solidFill>
                <a:latin typeface="Arial"/>
              </a:rPr>
              <a:t>(art. 59 i 66 ust. 2 ustawy PS w zw. z art. 22 ust. 8 ustawy RLK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rostokąt 2"/>
          <p:cNvSpPr/>
          <p:nvPr/>
        </p:nvSpPr>
        <p:spPr>
          <a:xfrm>
            <a:off x="395280" y="1700280"/>
            <a:ext cx="828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test pozostawia się bez rozpatrzenia jeżeli (pomimo prawidłowego pouczeni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ostał wniesiony po termin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ostał wniesiony przez podmiot wykluczony z możliwości otrzymania wsparc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ie wskazuje kryteriów wyboru operacji, z których oceną wnioskodawca się nie zgadza, lub w jakim zakresie wnioskodawca, nie zgadza się z negatywną oceną zgodności operacji z LSR lub w jakim zakresie wnioskodawca nie zgadza się z ustaleniem przez LGD kwoty wsparcia niższej niż wnioskowana oraz nie zawiera uzasadni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Protest pozostawia się bez rozpatrzenia także wówczas, gdy została wyczerpana kwota środków przewidzianych w umowie ramowej na realizację danego celu LSR w ramach środków pochodzących z danego EFS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rostokąt 1"/>
          <p:cNvSpPr/>
          <p:nvPr/>
        </p:nvSpPr>
        <p:spPr>
          <a:xfrm>
            <a:off x="468360" y="227664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sytuacji błędnego pouczenia, nie można pozostawić bez rozpatrzenia protestu, który został wniesion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) po termin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) bez spełnienia wymogów określonych w art. 54 ust. 2 pkt 4 ustawy o polityce spójnoś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takim przypadku należy wezwać wnioskodawcę do uzupełnień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rozpatrzyć prot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ymbol zastępczy tekstu 4"/>
          <p:cNvSpPr/>
          <p:nvPr/>
        </p:nvSpPr>
        <p:spPr>
          <a:xfrm>
            <a:off x="468360" y="779400"/>
            <a:ext cx="79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osób postępowania w przypadku, gdy pismo informujące do wnioskodawcy nie zawiera pouczenia, bądź zawiera błędne poucz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rostokąt 3"/>
          <p:cNvSpPr/>
          <p:nvPr/>
        </p:nvSpPr>
        <p:spPr>
          <a:xfrm>
            <a:off x="388800" y="45072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1476360" y="1916280"/>
          <a:ext cx="6095880" cy="34099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nioskoda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wota pomo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ość punkt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zy mieści się w limi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- uwzględniony pro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d – limit na poziomie celu ogóln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67" name="pole tekstowe 2"/>
          <p:cNvSpPr/>
          <p:nvPr/>
        </p:nvSpPr>
        <p:spPr>
          <a:xfrm>
            <a:off x="1390680" y="90792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ozpatrzenie protestu – wybrany w limi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1476360" y="1916280"/>
          <a:ext cx="6095880" cy="34099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nioskoda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wota pomo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ość punkt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zy mieści się w limi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 – uwzględniony pro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69" name="pole tekstowe 2"/>
          <p:cNvSpPr/>
          <p:nvPr/>
        </p:nvSpPr>
        <p:spPr>
          <a:xfrm>
            <a:off x="1390680" y="90792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ozpatrzenie protestu – wybrany poza lim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3882960"/>
            <a:ext cx="4103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DZIĘKUJĘ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ymbol zastępczy tekstu 4"/>
          <p:cNvSpPr/>
          <p:nvPr/>
        </p:nvSpPr>
        <p:spPr>
          <a:xfrm>
            <a:off x="733320" y="561960"/>
            <a:ext cx="74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NIESIENIE I ROZPATRZENIE PROTES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ole tekstowe 2"/>
          <p:cNvSpPr/>
          <p:nvPr/>
        </p:nvSpPr>
        <p:spPr>
          <a:xfrm>
            <a:off x="395280" y="1644480"/>
            <a:ext cx="819324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obecnej perspektywie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d niektórych rozstrzygnięć Rady przysługuje środek odwoławczy (art. 22 RLK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) operacja została negatywnie oceniona pod względem zgodności z LSR alb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) operacja nie uzyskała minimalnej liczby punktów w ramach kryteriów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yboru operacji (czyli nie została wybrana przez LGD) alb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c) operacja została wybrana ale nie mieści się w limicie środków wskazanym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ogłoszeniu o naborze wniosków alb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) protest przysługuje także od ustalenia przez LGD kwoty wsparcia niższej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ż wnioskowan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rostokąt 1"/>
          <p:cNvSpPr/>
          <p:nvPr/>
        </p:nvSpPr>
        <p:spPr>
          <a:xfrm>
            <a:off x="1116000" y="27050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II pię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rostokąt 1"/>
          <p:cNvSpPr/>
          <p:nvPr/>
        </p:nvSpPr>
        <p:spPr>
          <a:xfrm>
            <a:off x="611280" y="2705040"/>
            <a:ext cx="784836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UCZENIE O MOŻLIWOŚCI WNIESIENIA PROTESTU OKREŚL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) termin do wniesienia protes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) oznaczenie instytucji właściwej do rozpatrzenia protes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) wymogi formalne protes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ymbol zastępczy tekstu 4"/>
          <p:cNvSpPr/>
          <p:nvPr/>
        </p:nvSpPr>
        <p:spPr>
          <a:xfrm>
            <a:off x="733320" y="561960"/>
            <a:ext cx="74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ouczenie o prawie do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ole tekstowe 2"/>
          <p:cNvSpPr/>
          <p:nvPr/>
        </p:nvSpPr>
        <p:spPr>
          <a:xfrm>
            <a:off x="1112760" y="19000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Arial"/>
              </a:rPr>
              <a:t>(art. 21 ust. 5 i 6 ustawy RLKS oraz art. 46 ust. 5 ustawy PS w zw. z art. 21 ust. 7 ustawy RL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ymbol zastępczy tekstu 4"/>
          <p:cNvSpPr/>
          <p:nvPr/>
        </p:nvSpPr>
        <p:spPr>
          <a:xfrm>
            <a:off x="733320" y="561960"/>
            <a:ext cx="74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Forma wnoszenia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rostokąt 3"/>
          <p:cNvSpPr/>
          <p:nvPr/>
        </p:nvSpPr>
        <p:spPr>
          <a:xfrm>
            <a:off x="360360" y="1700280"/>
            <a:ext cx="828036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otest jest wnoszony w formie pisemnej i zawier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) oznaczenie zarządu województwa właściwego do rozpatrzenia protestu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2) oznaczenie wnioskodawc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3) numer WoPP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4) wskazanie kryteriów wyboru operacji oraz uzasadnienie stanowisk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5) wskazanie zarzutów o charakterze proceduralnym wraz z uzasadnieniem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6) podpis wnioskodawcy, lub osoby upoważnionej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nadto (jeśli dotyczy)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7) wskazanie, w jakim zakresie wnioskodawca nie zgadza się z negatywną oceną zgodności operacji z LSR oraz uzasadnieni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8) wskazanie, w jakim zakresie wnioskodawca nie zgadza się z ustaleniem przez LGD kwoty wsparcia niższej niż wnioskowana oraz uzasadnieni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ymbol zastępczy tekstu 4"/>
          <p:cNvSpPr/>
          <p:nvPr/>
        </p:nvSpPr>
        <p:spPr>
          <a:xfrm>
            <a:off x="733320" y="561960"/>
            <a:ext cx="74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zupełni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rostokąt 2"/>
          <p:cNvSpPr/>
          <p:nvPr/>
        </p:nvSpPr>
        <p:spPr>
          <a:xfrm>
            <a:off x="468360" y="1859040"/>
            <a:ext cx="80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zupełnienie protestu może nastąpić wyłącznie w zakres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1) oznaczenia zarządu województwa właściwego do rozpatrzenia protes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2) oznaczenia wnioskodawc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3) numeru WoP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4) podpisu wnioskodawcy, osoby upoważnionej do jego reprezentowania, lub dokumentu poświadczającego umocowanie osoby do reprezentowa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rostokąt 1"/>
          <p:cNvSpPr/>
          <p:nvPr/>
        </p:nvSpPr>
        <p:spPr>
          <a:xfrm>
            <a:off x="395280" y="1844640"/>
            <a:ext cx="82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GD w terminie 14 dni od dnia otrzymania protestu weryfikuje wyniki dokonanej przez siebie oceny operacji w zakresie kryteriów i zarzutów podnoszonych w proteście, 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dokonuje zmiany rozstrzygnięc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skierowanie operacji do właściwego etapu oceny alb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mieszczenie na liście operacji wybranych, al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2) kieruje protest do zarządu województ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iezależnie od powyższego, o wniesionym proteście LGD informuje niezwłocznie zarząd województ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ymbol zastępczy tekstu 4"/>
          <p:cNvSpPr/>
          <p:nvPr/>
        </p:nvSpPr>
        <p:spPr>
          <a:xfrm>
            <a:off x="324000" y="561960"/>
            <a:ext cx="82645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utokontrola” (LG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b050"/>
                </a:solidFill>
                <a:latin typeface="Arial"/>
              </a:rPr>
              <a:t>(art. 56 ust. 2 ustawy PS w zw. z art. 22 ust. 8 ustawy RLKS oraz art. 22 ust. 7 ustawy RLK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rostokąt 1"/>
          <p:cNvSpPr/>
          <p:nvPr/>
        </p:nvSpPr>
        <p:spPr>
          <a:xfrm>
            <a:off x="372960" y="2205000"/>
            <a:ext cx="455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rząd województ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względnienia protest ora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kieruje protest do właściwego etapu oce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rzekazuje LGD w celu ponownej oce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2) nie uwzględnia protestu – pouczenie o możliwości wniesienia skargi do sądu administracyjne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ymbol zastępczy tekstu 4"/>
          <p:cNvSpPr/>
          <p:nvPr/>
        </p:nvSpPr>
        <p:spPr>
          <a:xfrm>
            <a:off x="468360" y="561960"/>
            <a:ext cx="79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ozpatrywanie protestu (zarząd województw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b050"/>
                </a:solidFill>
                <a:latin typeface="Arial"/>
              </a:rPr>
              <a:t>(art. 57 oraz art. 58 ust. 1 i 2 ustawy PS w zw. z art. 22 ust. 8 ustawy RL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Znalezione obrazy dla zapytania rozpatrzenie"/>
          <p:cNvPicPr/>
          <p:nvPr/>
        </p:nvPicPr>
        <p:blipFill>
          <a:blip r:embed="rId2"/>
          <a:stretch/>
        </p:blipFill>
        <p:spPr>
          <a:xfrm>
            <a:off x="4840200" y="1847880"/>
            <a:ext cx="37800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rostokąt 1"/>
          <p:cNvSpPr/>
          <p:nvPr/>
        </p:nvSpPr>
        <p:spPr>
          <a:xfrm>
            <a:off x="372960" y="2205000"/>
            <a:ext cx="4559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dokonuje zmiany rozstrzygnięcia i umieszcza na liście operacji wybranych w limici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2) nie uwzględnia protestu – pouczenie o możliwości wniesienia skargi do sądu administracyjne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ymbol zastępczy tekstu 4"/>
          <p:cNvSpPr/>
          <p:nvPr/>
        </p:nvSpPr>
        <p:spPr>
          <a:xfrm>
            <a:off x="468360" y="561960"/>
            <a:ext cx="79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ozpatrywanie protestu (LG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b050"/>
                </a:solidFill>
                <a:latin typeface="Arial"/>
              </a:rPr>
              <a:t>(art. 57 oraz art. 58 ust. 1 i 2 ustawy PS w zw. z art. 22 ust. 8 ustawy RL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Znalezione obrazy dla zapytania rozpatrzenie"/>
          <p:cNvPicPr/>
          <p:nvPr/>
        </p:nvPicPr>
        <p:blipFill>
          <a:blip r:embed="rId2"/>
          <a:stretch/>
        </p:blipFill>
        <p:spPr>
          <a:xfrm>
            <a:off x="4840200" y="1847880"/>
            <a:ext cx="37800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ymbol zastępczy tekstu 4"/>
          <p:cNvSpPr/>
          <p:nvPr/>
        </p:nvSpPr>
        <p:spPr>
          <a:xfrm>
            <a:off x="468360" y="561960"/>
            <a:ext cx="79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nowny wybór operacji przez LG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b050"/>
                </a:solidFill>
                <a:latin typeface="Arial"/>
              </a:rPr>
              <a:t>(art. 58 ust. 3 i 4 ustawy PS w zw. z art. 22 ust. 8 ustawy RLK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rostokąt 2"/>
          <p:cNvSpPr/>
          <p:nvPr/>
        </p:nvSpPr>
        <p:spPr>
          <a:xfrm>
            <a:off x="442800" y="298440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GD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ie dokonuj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mian w sporządzonych dla naboru i opublikowanych listach (możliwe jest podjęcie i opublikowanie listy „technicznej”, zawierającej operacje „po proteście”, przesunięcia na liście rezerwowej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rostokąt 3"/>
          <p:cNvSpPr/>
          <p:nvPr/>
        </p:nvSpPr>
        <p:spPr>
          <a:xfrm>
            <a:off x="420840" y="3908520"/>
            <a:ext cx="813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miana rozstrzygnięcia LGD w zakresie oceny lub wyboru operacji, która nastąpi w związku z uwzględnieniem protestu, wiąże się przede wszystkim z koniecznością podjęcia przez LGD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osownej uchwały. Wskazane jest utworzenie i opublikowanie listy operacji ocenionych w ramach protestów. ZW dokonuje zestawienia projektów z listy pierwotnej oraz listy operacji „poprotestowych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rostokąt 4"/>
          <p:cNvSpPr/>
          <p:nvPr/>
        </p:nvSpPr>
        <p:spPr>
          <a:xfrm>
            <a:off x="504720" y="2060640"/>
            <a:ext cx="810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osób postępowania z operacjami, w odniesieniu do których, po rozpatrzeniu protestu, konieczne jest ich „umieszczenie" na liście operacji wybranych do finansowania (dodanie do listy / przesunięcie na liście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7-07-25T10:10:31Z</cp:lastPrinted>
  <dcterms:modified xsi:type="dcterms:W3CDTF">2017-12-05T13:50:35Z</dcterms:modified>
  <cp:revision>819</cp:revision>
  <dc:subject/>
  <dc:title>Slajd 1</dc:title>
</cp:coreProperties>
</file>