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3035-D6FA-41E0-89D9-837082D1723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A70-5D6E-4959-936A-A30A7C98B12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02C2-628F-4AA1-B7F6-EF33F69464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599-E77E-4B36-85A8-E402CB74E7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1EC-B588-46F1-8C72-9B82BC5EFB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DFFB-0D2F-4CD8-A726-40FFEC3036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B470-5EEC-489A-87D7-FE8FF63556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EDFF-70B1-49FE-BC38-65D68CE81B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DB7B-6BE5-4F9D-AD86-CBEAB0266C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334B-0335-4247-86CD-8523DDCE23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D585-8B17-4EDE-9603-484A82E8D7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626-00F2-415E-B7A7-5A9989621F5A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18880"/>
            <a:ext cx="7058160" cy="37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NIOSEK O PŁATNOŚĆ W RAMACH PODDZIAŁANIA 19.2 „WSPARCIE NA WDRAŻANIE OPERACJI W RAMACH STRATEGII ROZWOJU LOKALNEGO KIEROWANEGO PRZEZ SPOŁECZNOŚĆ” – </a:t>
            </a:r>
            <a:r>
              <a:rPr b="1" i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NAJCZĘŚCIEJ POPEŁNIANE BŁĘDY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5148360" y="4724280"/>
            <a:ext cx="352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503280" y="3575160"/>
            <a:ext cx="449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WIADCZENIA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68360" y="1969920"/>
            <a:ext cx="7970760" cy="9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pisu beneficjenta, miejscowości oraz daty wypełnienia wniosku o płat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9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ffffff"/>
                </a:solidFill>
                <a:latin typeface="Calibri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dpisanych umów o przyznanie pomocy w ramach poddziałania 19.2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250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wyprzedzającego finansowania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2 zlecenia na łączną kwotę 2 136 044,37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pośredni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1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pośredni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42 zlecenia na łączną kwotę 3 088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0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końcow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końcowy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1 zlecenie na kwotę 20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468360" y="1969920"/>
            <a:ext cx="79707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niewłaściwej wersji formular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formularzu dotyczącym innego rodzaju oper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ersji elektronicznej wniosku o płatn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5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y numer identyfikacyjny beneficjenta (numer producenta nadany przez ARiM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NIP lub numeru REGON beneficjen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adresu e-mail beneficj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anych osoby uprawnionej do konta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KAŹNIKI OSIĄGNIĘCIA CELU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miaru wskaźnika niezgodny z zapisami umowy o przyznanie pomo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wskaźnika osiągnięta w wyniku realizacji operacji niezgodna ze stanem faktyczny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68360" y="1969920"/>
            <a:ext cx="7970760" cy="88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eklaracji ZUS ZUA i ZUS DRA (załączniki obowiązkow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kładania przez beneficjenta deklaracji zgłoszeniowej lub rozliczeniowej do Zakładu Ubezpieczeń Społecznych drogą elektroniczną za pośrednictwem systemu PŁATNIK - brak dokumentu „Informacja o wysyłce i potwierdzeniu” informującego o uzyskaniu odpowiedniego statusu w system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osobistego składania deklaracji do ZUS - brak podpisu płatnika składek (beneficjenta) na deklaracji oraz brak potwierdzenia wpływu deklaracji do Zakładu Ubezpieczeń Społecz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75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68360" y="1969920"/>
            <a:ext cx="7970760" cy="10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bankowy, na który mają być przekazane środki finansowego założony na beneficjenta wspólnie z małżonkiem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niedopuszczal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numerze rachunku bankowego, na który mają być przekazane środki finansowe złożone w kopii – należy złożyć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ryginał dokumen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konta bankowego w systemie EBS ARiM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2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FRIII</cp:lastModifiedBy>
  <cp:lastPrinted>2013-10-21T07:28:16Z</cp:lastPrinted>
  <dcterms:modified xsi:type="dcterms:W3CDTF">2017-12-07T16:20:23Z</dcterms:modified>
  <cp:revision>851</cp:revision>
  <dc:subject/>
  <dc:title>Slajd 1</dc:title>
</cp:coreProperties>
</file>