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0BFF-A651-4FEB-B6A5-CBC8B6CC8F0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FB0A-C4FF-4932-9F25-DFAE7D89080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32FD-5D16-4FF5-B76B-A34DA68375B4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E9F3-D9C6-44DF-8028-0C95452B622B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035000"/>
            <a:ext cx="7777080" cy="24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naborów wniosków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lokalnych grupach działania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naborów grantow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grantow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0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ykorzystanie budż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korzystanie budżetu  w poszczególnych LGD (średnia: 54,08%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1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  <p:sp>
        <p:nvSpPr>
          <p:cNvPr id="211" name="pole tekstowe 2"/>
          <p:cNvSpPr/>
          <p:nvPr/>
        </p:nvSpPr>
        <p:spPr>
          <a:xfrm>
            <a:off x="1116000" y="5861160"/>
            <a:ext cx="464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uwzględnieniem płatności, umów, naborów zakończonych, rozpoczętych, ogłoszonych i protes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ole tekstowe 2"/>
          <p:cNvSpPr/>
          <p:nvPr/>
        </p:nvSpPr>
        <p:spPr>
          <a:xfrm>
            <a:off x="419040" y="1700280"/>
            <a:ext cx="8221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okalne grupy działania z województwa łódzkiego złożyły w UMW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736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 weryfikacji zostały przekazane (w tym z nieuzupełnionych naborów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24 wniosk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częto weryfikację dla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350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dpisano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0 um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drzucono lub pozostawiono bez rozpatrzenia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40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zakre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1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zakre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2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2"/>
          <p:cNvSpPr/>
          <p:nvPr/>
        </p:nvSpPr>
        <p:spPr>
          <a:xfrm>
            <a:off x="419040" y="1700280"/>
            <a:ext cx="822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rodzaj beneficjen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2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ole tekstowe 2"/>
          <p:cNvSpPr/>
          <p:nvPr/>
        </p:nvSpPr>
        <p:spPr>
          <a:xfrm>
            <a:off x="419040" y="1700280"/>
            <a:ext cx="822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rodzaj beneficjen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powi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powi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L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4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kalne grupy działania z województwa łódzkiego ogłosił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na kwot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3 996 687,8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grantowych na kwotę: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751 943,1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Urzędu Marszałkowskiego Województwa Łódzkiego wpłynęły wnioski 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na kwot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4 081 778,5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 (z wszystkich wnioskó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grantowych na kwotę: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 827 311,00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L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4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504720" y="1628640"/>
          <a:ext cx="8064720" cy="4210200"/>
        </p:xfrm>
        <a:graphic>
          <a:graphicData uri="http://schemas.openxmlformats.org/drawingml/2006/table">
            <a:tbl>
              <a:tblPr/>
              <a:tblGrid>
                <a:gridCol w="576360"/>
                <a:gridCol w="6915240"/>
                <a:gridCol w="573120"/>
              </a:tblGrid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serwacja i naprawa pojazdów samochodowych, z wyłączeniem motocyk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1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ygotowanie terenu pod budow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iekty noclegowe turystyczne i miejsca krótkotrwałego zakwaterow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0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yzjerstwo i pozostałe zabiegi kosmety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10.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uracje i inne stałe placówki gastronom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3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usługowa związana z zagospodarowaniem terenów ziele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90.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fizjoterapeutycz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1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w zakresie inżynierii i związane z nią doradztwo techn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6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óbka mechaniczna elementów metalow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2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a działalność rozrywkowa i rekreacyj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0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a działalność usługowa, gdzie indziej niesklasyfikow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ieczywa; produkcja świeżych wyrobów ciastkarskich i ciast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2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nywanie instalacji wodno-kanalizacyjnych, cieplnych, gazowych i klimatyzacyj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9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e specjalistyczne roboty budowlane, gdzie indziej niesklasyfikow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w zakresie architek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6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óbka metali i nakładanie powłok na me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0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ozostałych meb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wyrobów tartacz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2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ozostałych wyrobów z drewna; produkcja wyrobów z korka, słomy i materiałów używanych do wyplat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2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nywanie instalacji elektrycz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59.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e pozaszkolne formy edukacji, gdzie indziej niesklasyfikow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10.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chome placówki gastronom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związana z produkcją filmów, nagrań wideo i programów telewizyj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agencji reklamow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fotograficz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3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najem i dzierżawa maszyn i urządzeń budowla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405040" y="620640"/>
            <a:ext cx="323532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kresy nabor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kresy naborów, dla których wnioski zostały złożone w UWM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7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kresy naborów grantow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kresy naborów grantowych, dla których wnioski zostały złożone w UWM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8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8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zwykł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zwykł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grantow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grantow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4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ogłoszonych naborów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naborów zwykł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zwykł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0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4:30Z</dcterms:modified>
  <cp:revision>902</cp:revision>
  <dc:subject/>
  <dc:title>Slajd 1</dc:title>
</cp:coreProperties>
</file>