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F9C1-2424-4DB0-8F5D-4E837ABB80B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2C2F-4AAF-4F48-8988-0D2F2B2A181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6096-DAF2-4590-912C-1DC0C32DC6C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8181-2794-4BBD-B739-3E11CCA17502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1427040"/>
            <a:ext cx="7058160" cy="25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eryfikacja postępowania o udzielenie zamówienia publicznego przeprowadzonego: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- w trybie ustawy Prawo zamówień publicznych,</a:t>
            </a: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- zgodnie z zasadami konkurencyjności przed wnioskiem o płatność.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ymbol zastępczy tytułu 8"/>
          <p:cNvSpPr/>
          <p:nvPr/>
        </p:nvSpPr>
        <p:spPr>
          <a:xfrm>
            <a:off x="468360" y="4724280"/>
            <a:ext cx="4248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Łódź, 24/25 listopada 2016 ro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ole tekstowe 2"/>
          <p:cNvSpPr/>
          <p:nvPr/>
        </p:nvSpPr>
        <p:spPr>
          <a:xfrm>
            <a:off x="611280" y="1844640"/>
            <a:ext cx="770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54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55" name="Prostokąt 1"/>
          <p:cNvSpPr/>
          <p:nvPr/>
        </p:nvSpPr>
        <p:spPr>
          <a:xfrm>
            <a:off x="826920" y="1844640"/>
            <a:ext cx="73962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 i zasady usuwania braków oraz składania wyjaśnień przez Beneficjen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złożona dokumentacja zawiera braki, Samorząd Województwa wzywa Beneficjenta w formie pisemnej do ich usunięcia w terminie 7 dni od dnia doręczenia wez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istnieje konieczność uzyskania wyjaśnień, Samorząd Województwa wzywa Beneficjenta do udzielenia wyjaśnień  w terminie 7 dni od dnia doręczenia wezwania.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ezwania, o których mowa oraz przypadki, gdy w trakcie oceny postępowania niezbędne jest uzyskanie opinii innego podmiotu lub wystąpienie o kontrolę doraźną do Prezesa Urzędu Zamówień Publicznych, wydłużają termin dokonania oceny, o czas niezbędny do usunięcia braków/składania wyjaśnień oraz o czas niezbędny do uzyskania opinii lub wyników kontroli doraźnej, o czym Samorząd Województwa informuje Beneficjenta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Jeżeli Beneficjent, nie złożył wymaganych dokumentów w terminie, Samorząd Województwa dokonuje oceny w oparciu o posiadane dokumen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ymbol zastępczy tekstu 4"/>
          <p:cNvSpPr/>
          <p:nvPr/>
        </p:nvSpPr>
        <p:spPr>
          <a:xfrm>
            <a:off x="468360" y="476280"/>
            <a:ext cx="770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cena postępowania ofertowego zgodnie </a:t>
            </a:r>
            <a:br>
              <a:rPr sz="2400"/>
            </a:b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 zasadami konkurencyjności przed wnioskiem </a:t>
            </a:r>
            <a:br>
              <a:rPr sz="2400"/>
            </a:b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 płatność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rostokąt 2"/>
          <p:cNvSpPr/>
          <p:nvPr/>
        </p:nvSpPr>
        <p:spPr>
          <a:xfrm>
            <a:off x="755640" y="1844640"/>
            <a:ext cx="763272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sady konkurencyjności wydatków w ramach PROW 2014-2010  określa § 7 umowy o przyznaniu pomocy oraz załącznik nr 3 do umowy o przyznaniu pomoc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, zgodnie z umową, składa dokumentację w formie kopii potwierdzonych za zgodność z oryginałem przez osobę pełniącą funkcję kierownika Zamawiającego lub osobę upoważnioną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ymbol zastępczy tekstu 4"/>
          <p:cNvSpPr/>
          <p:nvPr/>
        </p:nvSpPr>
        <p:spPr>
          <a:xfrm>
            <a:off x="826920" y="561960"/>
            <a:ext cx="7396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60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1" name="Prostokąt 1"/>
          <p:cNvSpPr/>
          <p:nvPr/>
        </p:nvSpPr>
        <p:spPr>
          <a:xfrm>
            <a:off x="539640" y="1844640"/>
            <a:ext cx="76834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§ 7 umowy o przyznaniu pomocy  okreś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złożenia przez Beneficjenta dokumentacji związanej z przeprowadzonym postępowaniem ofertowy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dokument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ponownego przeprowadzenia postępowania - § 7 ust. 5 umowy dopuszcza możliwość ponownego przeprowadzenia postępowania ofertowego i złożenia dokumentacji z ponownie przeprowadzonego postępowania ofertowego, która go dotyczy wraz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nioskiem o płatnoś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ponownego przeprowadzenia postępowania ofertowego i złożenia dokumentacji z ponownie przeprowadzonego postępowania, która go dotyczy wraz z wnioskiem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łatnoś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Beneficjent zawarł umowę z wykonawcą i przekazał ją z dokumentacją lub przekazał inny dokument kupna/sprzedaży potwierdzający, że nabycie usługi lub dostawy zostało dokonane, nie ma możliwości ponownego przeprowadzenia postęp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2"/>
          <p:cNvSpPr/>
          <p:nvPr/>
        </p:nvSpPr>
        <p:spPr>
          <a:xfrm>
            <a:off x="684360" y="1844640"/>
            <a:ext cx="784836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 złożenia przez Beneficjenta dokumentacji związanej z przeprowadzonym postępowaniem ofertowy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łożenie przez Beneficjenta dokumentacji związanej z przeprowadzonym postępowaniem ofertowym potwierdzającym wybór najkorzystniejszej oferty możliwe jest najwcześniej w dniu zawarcia umowy a jednocześnie nie później niż w terminie 4 miesięcy przed pierwszym dniem terminu na złożenie wniosku o płatność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tym etapie możliwe jest również złożenie umowy z wykonawcą, o ile została zawar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z wykonawcą zamówienia, w przypadku gdy przedmiotem zamówienia są roboty budowlane, zawierana jest w formie pisemnej a w przypadkach pozostałych zamówień potwierdzeniem zawarcia umowy jest co najmniej oryginał stosownego dokumentu potwierdzającego dokonanie sprzedaży lub wykonanie usługi, zawierającego szczegółowe dane o transak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rostokąt 3"/>
          <p:cNvSpPr/>
          <p:nvPr/>
        </p:nvSpPr>
        <p:spPr>
          <a:xfrm>
            <a:off x="539640" y="1773360"/>
            <a:ext cx="806472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dokumentacj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złożona przez Beneficjenta zostanie oceniona przez Samorząd Województ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rminie 30 dni od dnia jej złoż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Beneficjent złoży dokumentację z naruszeniem powyższego termin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nie zostanie oceniona  w trybie przewidzianym umową, o czym Beneficjent zostanie poinformowany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zostanie oceniona na etapie wniosku o płatność, o ile wraz z wnioskiem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łatność nie zostanie złożona nowa dokumentacja z postępowania ofert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kiedy wraz z wnioskiem o płatność zostanie dostarczona nowa dokumentacj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ostępowania ofertowego, dokumentacja złożona z naruszeniem terminu pozostaje bez rozpozn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1"/>
          <p:cNvSpPr/>
          <p:nvPr/>
        </p:nvSpPr>
        <p:spPr>
          <a:xfrm>
            <a:off x="539640" y="1773360"/>
            <a:ext cx="79930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Elementy podlegające weryfikacji, wymagane załącznikiem nr 3 do umowy o przyznaniu pomo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sób upublicznienia zapytania ofertowego przez Beneficjenta – potwierdzenie udokumentowania publikacji zapytania ofertowego oraz modyfikacji treści zapytania ofertow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ferty, które wpłynęły do Beneficjenta, w tym data wpływu ofert oraz dane, które stanowią odpowiedź na warunki udziału w postępowaniu i kryteria oceny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ełnienie warunku braku powiązań osobowych i kapitałowy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brana oferta wraz z uzasadnieniem wybo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twierdzenie odpowiedniego upublicznienia informacji o wyniku postępow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tokół z wyboru najkorzystniejszej ofer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rostokąt 1"/>
          <p:cNvSpPr/>
          <p:nvPr/>
        </p:nvSpPr>
        <p:spPr>
          <a:xfrm>
            <a:off x="684360" y="1844640"/>
            <a:ext cx="77040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złożona dokumentacja będzie zawierała braki lub uchybienia, Samorząd Województwa poinformuje Beneficjenta o zakresie braków lub uchybień wraz ze wskazaniem, iż w sytuacji zrealizowania zadania, w ramach którego koszty zostaną przedstawione do refundacji, na podstawie tak przeprowadzonego postępowania ofertowego, bez usunięcia tych braków lub uchybień, które go dotyczą, zastosowana zostanie kara administracyjna, zgodnie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zasadami określonymi w załączniku nr 4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sady konkuren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cena postępowania o udzielenie zamówienia publiczn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1"/>
          <p:cNvSpPr/>
          <p:nvPr/>
        </p:nvSpPr>
        <p:spPr>
          <a:xfrm>
            <a:off x="468360" y="1700280"/>
            <a:ext cx="8136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w wyniku przeprowadzenia oceny postępowania o udzielenie zamówienia publicznego Samorząd Województwa stwierdzi, że Beneficjent naruszył przepisy ustawy Pzp, zostanie zastosowana kara administracyjna stosownie do załączników do umowy o przyznaniu pomo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5 –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Kary administracyjne za naruszenie przepisów o zamówieniach publicznych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5a - 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Kary administracyjne za naruszenie przepisów o zamówieniach publicznych po wejściu </a:t>
            </a:r>
            <a:br>
              <a:rPr sz="1400"/>
            </a:b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w życie nowelizacji ustawy pzp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, gdy Beneficjent naruszy zasady konkurencyjności wydatków określone w załącznik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r 3 do umowy o przyznaniu pomocy, zostanie zastosowana kara administracyjna, stosownie do załącznika nr 4 –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Wskaźniki procentowe do obliczenia wartości kar administracyjnych za naruszenie zasad konkurencyjności wydatków w ramach PROW 2014-2020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549000"/>
            <a:ext cx="727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7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Odwołanie  od rozstrzygnię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Obraz 4" descr=""/>
          <p:cNvPicPr/>
          <p:nvPr/>
        </p:nvPicPr>
        <p:blipFill>
          <a:blip r:embed="rId1"/>
          <a:stretch/>
        </p:blipFill>
        <p:spPr>
          <a:xfrm>
            <a:off x="6948360" y="5923080"/>
            <a:ext cx="30240" cy="439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3" descr=""/>
          <p:cNvPicPr/>
          <p:nvPr/>
        </p:nvPicPr>
        <p:blipFill>
          <a:blip r:embed="rId2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75" name="Obraz 3" descr=""/>
          <p:cNvPicPr/>
          <p:nvPr/>
        </p:nvPicPr>
        <p:blipFill>
          <a:blip r:embed="rId3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rostokąt 1"/>
          <p:cNvSpPr/>
          <p:nvPr/>
        </p:nvSpPr>
        <p:spPr>
          <a:xfrm>
            <a:off x="811080" y="2205000"/>
            <a:ext cx="7396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owi przysługuje jednorazowe prawo do wniesienia do SW prośby o ponowne rozpatrzenie sprawy wraz z uzasadnieniem w zakresie rozstrzygnięcia oceny postępowa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dzielenie zamówienia publicznego, w terminie 21 dni od dnia doręczenia Beneficjentowi pisma o danym rozstrzygnięciu (§ 18 umowy  o przyznanie pomocy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amorząd Województwa na rozpatrzenie odwołania ma 30 dni od dnia wniesienia prośby wraz z uzasadnieni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Kwalifikowalność kosztów postępowania</a:t>
            </a:r>
            <a:r>
              <a:rPr b="1" i="1" lang="pl-PL" sz="2400" spc="-1" strike="noStrike">
                <a:solidFill>
                  <a:srgbClr val="00206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2060"/>
                </a:solidFill>
                <a:latin typeface="Century"/>
              </a:rPr>
              <a:t>2007-2013 a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7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pic>
        <p:nvPicPr>
          <p:cNvPr id="180" name="Diagram 5" descr=""/>
          <p:cNvPicPr/>
          <p:nvPr/>
        </p:nvPicPr>
        <p:blipFill>
          <a:blip r:embed="rId3"/>
          <a:stretch/>
        </p:blipFill>
        <p:spPr>
          <a:xfrm>
            <a:off x="639720" y="2803680"/>
            <a:ext cx="7675560" cy="1780920"/>
          </a:xfrm>
          <a:prstGeom prst="rect">
            <a:avLst/>
          </a:prstGeom>
          <a:ln w="0">
            <a:noFill/>
          </a:ln>
        </p:spPr>
      </p:pic>
      <p:pic>
        <p:nvPicPr>
          <p:cNvPr id="181" name="Grupa 17" descr=""/>
          <p:cNvPicPr/>
          <p:nvPr/>
        </p:nvPicPr>
        <p:blipFill>
          <a:blip r:embed="rId4"/>
          <a:stretch/>
        </p:blipFill>
        <p:spPr>
          <a:xfrm>
            <a:off x="5237280" y="2646360"/>
            <a:ext cx="4241520" cy="197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684360" y="1700280"/>
            <a:ext cx="790704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2 czerwca 2016 r. o zmianie ustawy – Prawo zamówień publicznych oraz niektórych innych ustaw (Dz.U. z 2016 r. poz. 1020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zwoju z dnia 26 lipca 2016 r. w sprawie rodzajów dokumentów, jakich może żądać zamawiający od wykonawcy w postępowaniu o udzielenie zamówienia (Dz. U. 2016, poz. 1126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zporządzenie Ministra Rozwoju z dnia 26 lipca 2016 r. w sprawie protokołu postępowa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udzielenie zamówienia publicznego (Dz. U. 2016, poz. 112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mowa o przyznanie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2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900000" y="549360"/>
            <a:ext cx="6336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                  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Podstawa praw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Pozytywna ocena postępow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84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11280" y="2421000"/>
            <a:ext cx="8084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kumentacja jest poprawna pod względem przepisów ustawy Pzp oraz zasad konkurencyjności określonych w umowie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stępowanie o udzielenie zamówienia publicznego przeprowadzono z naruszeniem ustawy Pzp lub zasad konkurencyjności – na podstawie taryfikatora (załącznik nr 4, 5 i 5a) została nałożona korekta w wysokości niższej niż 10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ymbol zastępczy tekstu 4"/>
          <p:cNvSpPr/>
          <p:nvPr/>
        </p:nvSpPr>
        <p:spPr>
          <a:xfrm>
            <a:off x="1044720" y="571680"/>
            <a:ext cx="7272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Negatywna ocena postępowa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88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500040" y="1989000"/>
            <a:ext cx="795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podstawie nałożonych korekt administracyjnych zgodnie z załącznikiem nr 4 i 5 lub 5a do umowy o przyznaniu pomocy – zostanie nałożona korekta w wysokości 10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podstawie posiadanych dokumentów, stwierdzone zostanie takie naruszenie przepisów ustawy, które ma wpływ na wynik postępowania – a nie zostało objęte Taryfikator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684360" y="765000"/>
            <a:ext cx="763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entury"/>
              </a:rPr>
              <a:t>Co wynika z rozporządzenia WODK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ole tekstowe 2"/>
          <p:cNvSpPr/>
          <p:nvPr/>
        </p:nvSpPr>
        <p:spPr>
          <a:xfrm>
            <a:off x="733320" y="1916280"/>
            <a:ext cx="7799400" cy="41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szty kwalifikowalne podlegają refundacji w wysokości określonej w umowie o przyznaniu pomocy, jeżeli zostały poniesion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 dnia, w którym została zawarta umowa, a w przypadku kosztów ogólnych – od dni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stycznia 2014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godnie z przepisami o zamówieniach publicznych, a gdy te przepisy nie mają zastosowania – w wyniku wyboru przez Beneficjenta wykonawców poszczególnych zadań ujętych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zestawieniu rzeczowo-finansowym operacji z zachowaniem konkurencyjnego trybu ich wyboru określonego w umow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§ 20 ust. 3 rozporządzenia wyłącza konieczność stosowania konkurencyjnego trybu wyboru wykonawców w stosunku do kosztów ogólnych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poniesiony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przed dniem zawarcia umow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468360" y="1700280"/>
            <a:ext cx="81360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 zobowiązany jest do ponoszenia wszystkich kosztów kwalifikowalnych z zachowaniem zasad równego traktowania, uczciwej konkurencji i przejrzystości zgodnie z przepisam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zamówieniach publicznych, a w przypadku gdy przepisy nie będą miały zastosowania,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a wartość danego zadania ujętego w zestawieniu rzeczowo-finansowym operacji przekracza 20.000 zł netto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prowadzenia postępowania ofertowego i ponoszenia wszystkich kosztów kwalifikowalnych operacji zgodnie z zasadami określonymi w załączniku nr 3 do umow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osowanie zasad konkurencyjności wydatków w ramach PROW 2014-2020 obowiązuje beneficjentó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 będących podmiotami zobowiązanymi do stosowania ustawy pzp -  w przypadku zamówień przekraczających wartość 20 000 zł netto, tj. bez podatku od towaru i usług (kościoły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stowarzyszenia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ędących podmiotami zobowiązanymi do stosowania ustawy pzp - w przypadku zamówień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 wartości równej lub niższej wyrażonej w złotych równowartości kwoty 30.000 euro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 jednocześnie przekraczającej 20 000 zł net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łącznik nr 3 określa również do jakich zamówień zasady konkurencyjności nie mają zastosowania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900000" y="549360"/>
            <a:ext cx="7417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37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38" name="Prostokąt 1"/>
          <p:cNvSpPr/>
          <p:nvPr/>
        </p:nvSpPr>
        <p:spPr>
          <a:xfrm>
            <a:off x="468360" y="1844640"/>
            <a:ext cx="8136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§ 6 umowy o przyznanie pomocy określ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którym beneficjent jest zobowiązany przedłożyć SW dokumentację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rzeprowadzonego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dzaj i formę dokumentów jakie winien złożyć beneficj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i zasady usuwania braków oraz składania wyjaśnień przez Beneficjen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liwość zwrócenia się przez SW do Prezesa Urzędu Zamówień Publicznych o uzyskanie opinii w konkretnej sprawie oraz możliwość wystąpienia o kontrolę doraźną, o czym Beneficjent zostanie poinformowany na piśm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rostokąt 3"/>
          <p:cNvSpPr/>
          <p:nvPr/>
        </p:nvSpPr>
        <p:spPr>
          <a:xfrm>
            <a:off x="539640" y="1844640"/>
            <a:ext cx="80647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którym beneficjent jest zobowiązany przedłożyć SW dokumentację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 przeprowadzonego postępowania o udzielenie zamówienia publiczneg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0 dni od dnia zawarcia umowy, jeżeli przed jej zawarciem została zawarta umo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ykonawc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30 dni od dnia zawarcia umowy z wykonawcą, jeżeli umowa z wykonawcą została zawarta po dniu zawarcia umowy o przyznaniu pomoc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ie później niż w dniu upływu terminu złożenia wniosku o płatność w przypadku, gdy umow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wykonawcą została zawarta w terminie krótszym niż 30 dni przed upływem terminu złożenia wniosku o płatność, którego dotyczy postępowanie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900000" y="549360"/>
            <a:ext cx="7417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                     </a:t>
            </a: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43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44" name="Prostokąt 1"/>
          <p:cNvSpPr/>
          <p:nvPr/>
        </p:nvSpPr>
        <p:spPr>
          <a:xfrm>
            <a:off x="539640" y="1844640"/>
            <a:ext cx="76327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Rodzaj i forma dokumentów jakie winien złożyć Beneficj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neficjent przedkłada SW dokumentację z przeprowadzonego postępowania o udzielenie zamówienia publicznego, w formie kopii potwierdzonych za zgodność z oryginałem przez osobę pełniącą funkcję kierownika Zamawiającego lub osobę upoważnioną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kumentacja  obejmu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przetargową, w tym ogłosze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 przebiegu prac komisji przetargowe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ofertę wybranego wykonawcy wraz z zawartą umową oraz formularze ofertowe pozostałych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wiązaną z odwołaniami, zapytaniami i wyjaśnieniami do siwz. jeżeli miały miejsce w danym postępowani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poważnienie do potwierdzania dokumentacji za zgodność z oryginałem dla osoby upoważnionej przez Zamawiając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ne dokumenty przetargowe, jeżeli zajdzie potrzeba ich zweryfikowania. c.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rostokąt 3"/>
          <p:cNvSpPr/>
          <p:nvPr/>
        </p:nvSpPr>
        <p:spPr>
          <a:xfrm>
            <a:off x="468360" y="1789200"/>
            <a:ext cx="79912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.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rzypadku udzielania zamówienia publicznego w trybie zamówienia z wolnej ręki na podstawie art. 67 ust.1 pkt 4 ustawy pz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postępowanie zostało wszczęte po wejściu w życie nowelizacji ustaw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 przeprowadzonego postępowania w trybie przetargu nieograniczonego lub ograniczo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zasadnienie faktyczne i prawne zaistnienia przesłanek do udzielenia zamówienia z wolnej ręki w trybie art. 67 ust.1 pkt 4 ustawy pz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żeli postępowanie zostało wszczęte przed wejściem w życie nowelizacji ustaw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otokoły z kolejno unieważnionych postępowań, zawierających podstawę prawną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uzasadnienie faktyczne (brak ofert lub wniosków o dopuszczenie do udziału w postepowaniu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mpletną dokumentację związaną z unieważnionymi postępowaniami o udzielenie zamówienia publicznego (odrzucenie wszystkich ofert ze względu na ich niezgodność z siwz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ymbol zastępczy tekstu 4"/>
          <p:cNvSpPr/>
          <p:nvPr/>
        </p:nvSpPr>
        <p:spPr>
          <a:xfrm>
            <a:off x="950760" y="561960"/>
            <a:ext cx="72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"/>
              </a:rPr>
              <a:t>Co wynika z postanowień umowy dla oceny zamówień publiczny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raz 3" descr=""/>
          <p:cNvPicPr/>
          <p:nvPr/>
        </p:nvPicPr>
        <p:blipFill>
          <a:blip r:embed="rId1"/>
          <a:stretch/>
        </p:blipFill>
        <p:spPr>
          <a:xfrm>
            <a:off x="7056360" y="5923080"/>
            <a:ext cx="690480" cy="460080"/>
          </a:xfrm>
          <a:prstGeom prst="rect">
            <a:avLst/>
          </a:prstGeom>
          <a:ln w="0">
            <a:noFill/>
          </a:ln>
        </p:spPr>
      </p:pic>
      <p:pic>
        <p:nvPicPr>
          <p:cNvPr id="149" name="Obraz 3" descr=""/>
          <p:cNvPicPr/>
          <p:nvPr/>
        </p:nvPicPr>
        <p:blipFill>
          <a:blip r:embed="rId2"/>
          <a:stretch/>
        </p:blipFill>
        <p:spPr>
          <a:xfrm>
            <a:off x="7854840" y="589608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50" name="Prostokąt 1"/>
          <p:cNvSpPr/>
          <p:nvPr/>
        </p:nvSpPr>
        <p:spPr>
          <a:xfrm>
            <a:off x="611280" y="1916280"/>
            <a:ext cx="7848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ermin, w jakim SW zobowiązany jest dokonać oceny postępowania o udzielenie zamówienia publiczneg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amorząd Województwa dokona oceny postępowania o udzielenie zamówienia publicznego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erminie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60 dni roboczych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od dnia złożenia dokument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3-10-21T07:28:16Z</cp:lastPrinted>
  <dcterms:modified xsi:type="dcterms:W3CDTF">2016-11-22T06:49:15Z</dcterms:modified>
  <cp:revision>613</cp:revision>
  <dc:subject/>
  <dc:title>Slajd 1</dc:title>
</cp:coreProperties>
</file>