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571500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571500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8210520" y="5943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"/>
          <p:cNvPicPr/>
          <p:nvPr/>
        </p:nvPicPr>
        <p:blipFill>
          <a:blip r:embed="rId3"/>
          <a:stretch/>
        </p:blipFill>
        <p:spPr>
          <a:xfrm>
            <a:off x="8077320" y="304920"/>
            <a:ext cx="831600" cy="583920"/>
          </a:xfrm>
          <a:prstGeom prst="rect">
            <a:avLst/>
          </a:prstGeom>
          <a:ln w="0">
            <a:noFill/>
          </a:ln>
        </p:spPr>
      </p:pic>
      <p:pic>
        <p:nvPicPr>
          <p:cNvPr id="4" name="Obraz 5" descr="end.JPG"/>
          <p:cNvPicPr/>
          <p:nvPr/>
        </p:nvPicPr>
        <p:blipFill>
          <a:blip r:embed="rId4"/>
          <a:stretch/>
        </p:blipFill>
        <p:spPr>
          <a:xfrm>
            <a:off x="0" y="0"/>
            <a:ext cx="1525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cf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end.JPG"/>
          <p:cNvPicPr/>
          <p:nvPr/>
        </p:nvPicPr>
        <p:blipFill>
          <a:blip r:embed="rId2"/>
          <a:srcRect l="0" t="0" r="6680" b="0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80720" y="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999800" y="2214360"/>
            <a:ext cx="60721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Verdana"/>
              </a:rPr>
              <a:t>Beneficjenc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Verdana"/>
              </a:rPr>
              <a:t>„</a:t>
            </a:r>
            <a:r>
              <a:rPr b="1" lang="pl-PL" sz="2400" spc="-1" strike="noStrike">
                <a:solidFill>
                  <a:srgbClr val="002060"/>
                </a:solidFill>
                <a:latin typeface="Verdana"/>
              </a:rPr>
              <a:t>Małych projektów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Cambria Math"/>
              </a:rPr>
              <a:t>tj. operacji , które nie odpowiadają warunkom przyznania pomocy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Verdana"/>
                <a:ea typeface="Cambria Math"/>
              </a:rPr>
              <a:t>w ramach działań Osi 3., ale przyczyniają się do osiągnięcia celów tej osi.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571760" y="-189000"/>
            <a:ext cx="6672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999800" y="2214360"/>
            <a:ext cx="60721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osoba fizyczna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, która jest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obywatelem państwa członkowskiego UE,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pełnoletnia,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zamieszkująca na obszarze objętym LSR lub prowadząca działalność gospodarczą na tym obszarze,</a:t>
            </a:r>
            <a:br>
              <a:rPr sz="1800"/>
            </a:b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 mieszkańcy wsi, rolnicy, osoby prowadzące sklepy </a:t>
            </a:r>
            <a:br>
              <a:rPr sz="14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i punkty usługowe, rzemieślnicy, inni przedsiębiorcy, którzy nie mogą uzyskać pomocy w zakresie działań Osi 3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785960" y="285480"/>
            <a:ext cx="66722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– Beneficjenci (1/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2071440"/>
            <a:ext cx="6400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SzPct val="12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osoby prawne 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albo jednostki organizacyjne nieposiadające osobowość prawną, którym ustawy przyznają zdolność prawną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00206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działające na podstawie przepisów o stosunku Państwa do Kościoła Katolickiego w Rzeczypospolitej Polskiej, o stosunku Państwa do innych kościołów i związków wyznaniowych oraz o gwarancjach wolności sumienia i wyznania, które posiadają siedzibę na obszarze objętym LSR lub prowadzą działalność na tym obszarze;</a:t>
            </a:r>
            <a:br>
              <a:rPr sz="1800"/>
            </a:br>
            <a:br>
              <a:rPr sz="1800"/>
            </a:b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np. instytucje kościelne (Caritas), parafie, inne związki wyznaniowe …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500120" y="285480"/>
            <a:ext cx="69580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– Beneficjenci (2/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20718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2. </a:t>
            </a: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Verdana"/>
              </a:rPr>
              <a:t>osoby prawne 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albo jednostki organizacyjne nieposiadające osobowości prawnej, którym ustawy przyznają zdolność prawną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b)</a:t>
            </a:r>
            <a:r>
              <a:rPr b="0" lang="pl-PL" sz="1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utworzone na podstawie przepisów ustaw,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w tym fundacje albo stowarzyszenia, 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które posiadają siedzibę na obszarze 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objętym LSR lub prowadzą działalność na 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Verdana"/>
              </a:rPr>
              <a:t>tym obszarze.</a:t>
            </a:r>
            <a:br>
              <a:rPr sz="1800"/>
            </a:br>
            <a:br>
              <a:rPr sz="1400"/>
            </a:b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00120" y="214200"/>
            <a:ext cx="69580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Małe projekty – Beneficjenci (3/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1071360"/>
            <a:ext cx="6400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7280" indent="-287280">
              <a:spcBef>
                <a:spcPts val="24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Stowarzyszenia zarejestrowane w KRS </a:t>
            </a: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(w tym KGW, OSP),</a:t>
            </a:r>
            <a:br>
              <a:rPr sz="1000"/>
            </a:b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Fundacje,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Instytucje kultury, w tym biblioteki, muzea, orkiestry </a:t>
            </a:r>
            <a:br>
              <a:rPr sz="1600"/>
            </a:b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- jednostki organizacyjne jst utworzone na podstawie ustawy z dnia 25 października 1991 r. (Dz. U. Nr 114, poz. 493) o organizowaniu i prowadzeniu działalności kulturalnej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,</a:t>
            </a:r>
            <a:br>
              <a:rPr sz="1600"/>
            </a:br>
            <a:r>
              <a:rPr b="0" i="1" lang="pl-PL" sz="1400" spc="-1" strike="noStrike">
                <a:solidFill>
                  <a:srgbClr val="002060"/>
                </a:solidFill>
                <a:latin typeface="Verdana"/>
              </a:rPr>
              <a:t>Uwaga! Jeżeli w/w. instytucje działają na podstawie innych ustaw należy każdy przypadek rozpatrywać indywidualnie, </a:t>
            </a:r>
            <a:br>
              <a:rPr sz="1600"/>
            </a:br>
            <a:r>
              <a:rPr b="0" i="1" lang="pl-PL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24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Wspólnoty gruntowe </a:t>
            </a: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– ustawa z dnia 29 czerwca 1963 r. o zagospodarowaniu wspólnot gruntowych (Dz.U. Nr 28, poz. 169),</a:t>
            </a:r>
            <a:br>
              <a:rPr sz="1000"/>
            </a:b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Uczniowskie kluby sportowe,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24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Instytuty PAN </a:t>
            </a: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– Art. 46 ustawy z dnia 25 kwietnia 1997 o Polskiej Akademii Nauk </a:t>
            </a:r>
            <a:br>
              <a:rPr sz="1000"/>
            </a:b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(Dz.U. z 1997 Nr 75 poz. 469 z późn. zm),</a:t>
            </a:r>
            <a:br>
              <a:rPr sz="1000"/>
            </a:b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24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Spółdzielnie mieszkaniowe </a:t>
            </a: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Ustawa z dnia 16 września 1982 r. Prawo spółdzielcze (tekst jednolity: Dz. U. z 2003 r. Nr 188, poz. 1848);</a:t>
            </a:r>
            <a:br>
              <a:rPr sz="1000"/>
            </a:b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Ustawa z dnia 15 grudnia 2000 r. o spółdzielniach mieszkaniowych (Dz. U. z 2001 r. Nr 4, poz. 27, z późn. zm.),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24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24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Spółka wodna </a:t>
            </a: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– Prawo wodne, </a:t>
            </a:r>
            <a:br>
              <a:rPr sz="1000"/>
            </a:br>
            <a:r>
              <a:rPr b="0" lang="pl-PL" sz="1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400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SPZOZ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601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004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213920" y="285840"/>
            <a:ext cx="7594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Tahoma"/>
              </a:rPr>
              <a:t>Osoby prawne np.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Wspólnota mieszkaniowa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półka jawna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półka partnerska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półka komandytowa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półka komandytowo-akcyjna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półka akcyjna w organizacji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półka z o.o. w organizacji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Europejskie zgrupowanie interesów     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gospodarczych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56840" y="428760"/>
            <a:ext cx="7101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Tahoma"/>
              </a:rPr>
              <a:t>Jednostki organizacyjne nieposiadające </a:t>
            </a:r>
            <a:br>
              <a:rPr sz="2400"/>
            </a:br>
            <a:r>
              <a:rPr b="0" lang="pl-PL" sz="2400" spc="-1" strike="noStrike">
                <a:solidFill>
                  <a:srgbClr val="002060"/>
                </a:solidFill>
                <a:latin typeface="Tahoma"/>
              </a:rPr>
              <a:t>osobowości prawnej, którym ustawy przyznają zdolność prawną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1856880"/>
            <a:ext cx="6400800" cy="27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Jednostki organizacyjne, którym ustawy nie nadają zdolności prawnej np. :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zkoły publiczne,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rzedszkola publiczne,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parki narodowe i krajobrazowe,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Lasy Państwowe (w tym nadleśnictwa),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KGW nierejestrowe,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OSP nierejestrowe,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sołectwa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pl-PL" sz="24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285560" y="500040"/>
            <a:ext cx="71722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Tahoma"/>
              </a:rPr>
              <a:t>Z pomocy nie mogą skorzystać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1857240"/>
            <a:ext cx="640080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68151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Verdana"/>
              </a:rPr>
              <a:t>Dziękuję za uwag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544" b="18008"/>
          <a:stretch/>
        </p:blipFill>
        <p:spPr>
          <a:xfrm>
            <a:off x="1285920" y="1928880"/>
            <a:ext cx="75009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37:48Z</dcterms:created>
  <dc:creator>leader</dc:creator>
  <dc:description/>
  <dc:language>en-US</dc:language>
  <cp:lastModifiedBy>SStaniuk</cp:lastModifiedBy>
  <dcterms:modified xsi:type="dcterms:W3CDTF">2009-11-27T11:32:06Z</dcterms:modified>
  <cp:revision>184</cp:revision>
  <dc:subject/>
  <dc:title>TITRE EN MAJUSCULES</dc:title>
</cp:coreProperties>
</file>