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F25-D83B-410C-8C32-D4EE5D59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1F6-A6B2-49EC-89DF-90A9E686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2AF-D25A-4329-995F-30F0F25A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B2F-6841-4F30-9CF2-6292867E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C0C7-9E4A-4974-ACB7-2F9ADFC0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D91-8298-4652-A10E-E8E3B5F2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A718-5866-4F5F-81D2-EC2AF63E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A8D8-1B58-4EB1-A495-9B7D7611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AFB2-6293-4073-94E6-D71290C5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2B99-D03E-4D88-AC1E-0E745F8F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B156-9E57-4DDB-A896-C06EDD53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AAA-212D-4D99-8BFE-71E914A0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F1B0-8A08-4F80-98F8-9AD29630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7F5F-E01A-472F-A4B8-F4B9205F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3011-7553-4B83-AD30-187B45E9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952E-C3DE-404D-8E5D-6A2AE540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D14E-C4DE-452E-AEE3-2FA4B461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D8A0-6BCF-46DB-AE18-1AE32FE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5983-53FE-4E47-B602-DE13C406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B486-3EF9-4BAB-B520-0DBBFFBE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15CA-515C-4983-BF7C-778D6A8E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BF8E-F76F-4F64-B743-F11A7B6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E3B-0E21-4E9B-8577-7A437D0D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27C3-29FD-4112-BE6E-D0E8D106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2E14-E1BF-493D-8B46-D2EF854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15BBD-16B1-4640-9A81-182BA59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6478-DF32-4971-863A-4B89958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7F46-5CC5-4715-9472-0639EFDB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88B1-5573-404D-9A78-E3E10E68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4817-2459-43EB-AC10-985FDDDD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CE53-5B06-4640-BEA6-7A89F841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7A40-367D-4C6B-9D1A-ACABC955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B19B-8127-4BAD-840F-EFB34123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F26-15BB-4E21-B2A0-ED2D1E97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BFE7-1CCF-4A45-B6FA-72BC7E62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53A2-BE6A-4E04-827D-548CCB8D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ABB89-AAAA-444C-9FFA-B3AB5068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E046-4D90-430A-88D2-E7CFBC20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D1EA-D4C7-4EC6-897B-1C3CC82A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5B0D-5A13-4FF4-BC00-FC928A58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7B49A-D514-41E7-8EB6-61C235C8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B04A6-A88A-48F0-BD98-5870D9F2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7C5C-1BFD-4758-8204-405B293A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2AD24-E27C-4E8B-870A-03DD1054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105-162C-47D5-A46B-2CC85B85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439A-7F2A-40BC-8F66-59AF9F62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BFF71-BB22-41A5-8EBC-AC343116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D9F18-41F8-47DB-A7D9-C8A60DF2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0356-21D7-439E-96F5-27618EB4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E0255-BF94-4AAF-86F0-AAF2070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7385-ED9B-4AE4-8D9A-7DBADE22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B54AE-2710-4E78-8CCB-3900A26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A0ACD-A92A-4B99-9B66-E01F6FB4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00514-AE5B-4B1C-9EF7-C1B6A67A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65D4B-7A59-4B7A-9581-E8B288E5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A47-B94D-4EAD-AB7E-0305DBD1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F7E6-48ED-4D3F-BDBB-9315EE8B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FD400-218D-4ED9-8C24-5FCF9FFF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B69A1-0623-4CD2-965D-2FFE2F1A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95469-78A3-49EE-A01B-7B37525D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72342-1E47-4E03-88F4-AAA0D444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D7861-5F48-4FC2-88C5-60DDBED4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B5D36-416A-4C17-AC30-2607BAC8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2F44F-EAD1-4B71-A271-06C6995E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757CB-C923-4B80-926A-65A97F75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8E2DC-4E26-4FDB-AAF4-05D341E5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896-EA54-426D-A56D-6B307B57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1658A-54A7-43CF-A44A-232ADA4D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43A18-380D-42FD-B67A-12AD7D30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7A61-D2FE-4FFC-8A87-46B0D72B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C378A-9796-4003-818F-AF7874BD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58B15-3401-44D2-BEE4-8A35D205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042BF-0209-4185-BA76-E513629F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CECFC-643C-4E62-9B93-7A37011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28991-43CA-4452-8324-DF12E77A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BA57E-DCAF-4B60-8028-208E4F8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C4DD5-FB44-43F1-A607-7AE2917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6E4-3BAE-4DA1-BFE5-D3870CD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A514-AE71-4A3C-B0CE-1F5F5E8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06A7-840A-464C-9772-37360C9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A05BC-BB6A-4A10-9A39-59970B5D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EAE82-41F7-452D-B794-B24A8057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96CE-AEB5-41E4-9555-C1C5282A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F0A0-FFAC-4579-8CEE-3D62D68A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6D6A4-B4B9-4D08-BC6B-C525B970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CE2D9-CB2C-4BB5-8AD8-5698474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45A64-1942-4585-BB29-888681FE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897C0-CA65-4EAB-85A9-1FD5F6FF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D31-101E-4AB5-8E25-F55AB36D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C055-6774-468A-AE02-C244711E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51308-37EA-4E59-A5CD-303AEEF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FC7DD-1311-436F-A68C-C5572E5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9C670-AAA5-4E93-A1C4-79B04244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171AF-A883-46AF-B730-D6EBB01B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23A02-11ED-44F1-8A63-1BA64054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9A4E8-A036-47BA-BF9D-A8CC605D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10BA-D336-49CA-AABC-71DFEFE28C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Kasia z wysypką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42" name="Obraz 7" descr="Leader 07-13.jpg"/>
          <p:cNvPicPr/>
          <p:nvPr/>
        </p:nvPicPr>
        <p:blipFill>
          <a:blip r:embed="rId3"/>
          <a:stretch/>
        </p:blipFill>
        <p:spPr>
          <a:xfrm>
            <a:off x="5786280" y="4786200"/>
            <a:ext cx="94320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Obraz 8" descr="MRiRW[1].jpg"/>
          <p:cNvPicPr/>
          <p:nvPr/>
        </p:nvPicPr>
        <p:blipFill>
          <a:blip r:embed="rId4"/>
          <a:stretch/>
        </p:blipFill>
        <p:spPr>
          <a:xfrm>
            <a:off x="2143080" y="4786200"/>
            <a:ext cx="987480" cy="928800"/>
          </a:xfrm>
          <a:prstGeom prst="rect">
            <a:avLst/>
          </a:prstGeom>
          <a:ln w="0">
            <a:noFill/>
          </a:ln>
        </p:spPr>
      </p:pic>
      <p:pic>
        <p:nvPicPr>
          <p:cNvPr id="44" name="Obraz 9" descr="PROW2007-2013[2].jpg"/>
          <p:cNvPicPr/>
          <p:nvPr/>
        </p:nvPicPr>
        <p:blipFill>
          <a:blip r:embed="rId5"/>
          <a:stretch/>
        </p:blipFill>
        <p:spPr>
          <a:xfrm>
            <a:off x="3571920" y="4786200"/>
            <a:ext cx="1714320" cy="91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4F01-9D61-476C-922B-5538BEAF72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7" descr="Leader 07-13.jpg"/>
          <p:cNvPicPr/>
          <p:nvPr/>
        </p:nvPicPr>
        <p:blipFill>
          <a:blip r:embed="rId2"/>
          <a:stretch/>
        </p:blipFill>
        <p:spPr>
          <a:xfrm>
            <a:off x="8001000" y="571500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87" name="Obraz 6" descr="Leader baner.jpg"/>
          <p:cNvPicPr/>
          <p:nvPr/>
        </p:nvPicPr>
        <p:blipFill>
          <a:blip r:embed="rId3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D9F3-C879-43A9-8888-F5B7F2D38C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Obraz 7" descr="Leader 07-13'.jpg"/>
          <p:cNvPicPr/>
          <p:nvPr/>
        </p:nvPicPr>
        <p:blipFill>
          <a:blip r:embed="rId3"/>
          <a:srcRect l="0" t="0" r="2280" b="0"/>
          <a:stretch/>
        </p:blipFill>
        <p:spPr>
          <a:xfrm>
            <a:off x="8172360" y="5867280"/>
            <a:ext cx="925560" cy="928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2A87-AB5A-411B-979E-F4433554E5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CCDE-B470-4877-8888-CD326759D9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Obraz 7" descr="Leader 07-13'.jpg"/>
          <p:cNvPicPr/>
          <p:nvPr/>
        </p:nvPicPr>
        <p:blipFill>
          <a:blip r:embed="rId3"/>
          <a:srcRect l="0" t="0" r="2280" b="0"/>
          <a:stretch/>
        </p:blipFill>
        <p:spPr>
          <a:xfrm>
            <a:off x="8072280" y="5786280"/>
            <a:ext cx="925560" cy="928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9639-1150-49CB-AEE3-00CD2A23F2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711-0AFA-4F40-9927-ACA779CDBA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6FE-C410-4C60-B22E-848D6DD6ED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Obraz 6" descr="end.JPG"/>
          <p:cNvPicPr/>
          <p:nvPr/>
        </p:nvPicPr>
        <p:blipFill>
          <a:blip r:embed="rId2"/>
          <a:srcRect l="0" t="0" r="6680" b="0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image" Target="../media/image13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image" Target="../media/image1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2920" y="157140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c00000"/>
                </a:solidFill>
                <a:latin typeface="Calibri"/>
              </a:rPr>
              <a:t>Umowa przyznania pomocy</a:t>
            </a:r>
            <a:endParaRPr b="0" lang="en-US" sz="43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5720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listopad 2009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42920" y="414324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atarzyna Łukasiewicz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nisterstwo Rolnictwa i Rozwoju W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ytuł 1"/>
          <p:cNvSpPr/>
          <p:nvPr/>
        </p:nvSpPr>
        <p:spPr>
          <a:xfrm>
            <a:off x="0" y="2143080"/>
            <a:ext cx="91440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w ramach działania</a:t>
            </a:r>
            <a:br>
              <a:rPr sz="2800"/>
            </a:b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413 Wdrażanie lokalnych strategii rozwo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c00000"/>
                </a:solidFill>
                <a:uFillTx/>
                <a:latin typeface="Calibri"/>
              </a:rPr>
              <a:t>MAŁE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Realizacja operacji</a:t>
            </a:r>
            <a:br>
              <a:rPr sz="4000"/>
            </a:b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(2/2)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Udokumentowanie wykonania operacji w zakresie rzeczowym i finansowy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Uzyskanie wymaganych opinii, zaświadczeń, uzgodnień, pozwoleń, lub decyzji związanych z realizacją tej operacj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Zamontowanie oraz uruchomienie nabytego wyposażenia, urządzeń i sprzętu biurowego, w tym sprzętu komputerowe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Zobowiązania Wnioskodawc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1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85560" y="2060280"/>
            <a:ext cx="7072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ełnienie warunków określonych w PROW 2007-2013 oraz aktach praw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alizacja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miejscach wskazanych w umow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2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31640" y="1125360"/>
            <a:ext cx="7072200" cy="42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łożenie wniosku/wniosków o płatn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zór formularza – strona www U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ejsce wskazane w informacji na stronie www 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raz z dokumentami niezbędnymi do wypłaty środków finansowych z tytułu pomocy, których wykaz zawiera formularz wniosku o płatnoś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wniosku o płatność ostateczną Beneficjent załącza sprawozdanie z realizacji operacji, na formularzu udostępnionym przez Samorząd Wojewódz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3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331640" y="195552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iągnięcie celu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chowanie celu operacji przez okres 5 lat od dnia dokonania płatności ostatecz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przypadku zadań inwestycyjnych realizowanych w ramach opera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4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finansowanie realizacji operacji z udziałem innych środków publiczn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wyłączeniem współfinansowania z Funduszu Kościelnego lub środków własnych J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niesienie kosztów, stanowiących podstawę wyliczenia pomocy w formie rozliczenia pienięż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transakcji, której wartość, bez względu na liczbę wynikających z niej płatności,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przekracza 1 tys. złot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w formie rozliczenia bezgotówkoweg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za pomocą polecenia przelewu za pośrednictwem rachunku bankoweg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5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258560" y="1557360"/>
            <a:ext cx="48258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ieprzenoszenie prawa własności lub posiadania rzeczy nabytych w ramach realizacji operacji, na które została przyznana i wypłacona pomoc i ich wykorzystanie zgodnie z przeznaczeni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iezmieniania sposobu lub miejsca prowadzenia działalności związanej z przyznaną pomoc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zechowywanie całości dokumentacji związanej z przyznaną pomocą, z wyłączeniem dokumentów, których oryginały znajdują się w siedzibie Urzędu Marszałkowski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6012000" y="2060640"/>
            <a:ext cx="3132000" cy="1584360"/>
          </a:xfrm>
          <a:prstGeom prst="cloudCallout">
            <a:avLst>
              <a:gd name="adj1" fmla="val -49138"/>
              <a:gd name="adj2" fmla="val 9729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trakcie realizacji operacji oraz do dnia upływu 5 lat od dnia dokonania przez Agencję płatności ostate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6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499760" y="1773000"/>
            <a:ext cx="7186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formowanie i rozpowszechniania informacji o pomocy otrzymanej z EFRROW, zgodnie z przepisami pkt 3 i 4 załącznika VI rozporządzenia 1974/2006 oraz z warunkami określonymi w Księdze wizualizacji znaku Programu Rozwoju Obszarów Wiejskich na lata 2007-2013, opublikowanej na stronie internetowej Ministerstwa Rolnictwa i Rozwoju W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zwłoczne informowanie Samorządu Województwa o planowanych albo zaistniałych zdarzeniach związanych ze zmianą sytuacji faktycznej lub prawnej Beneficjenta w zakresie mogącym mieć wpływ na realizację operacji zgodnie z umową, wypłatę pomocy lub spełnienie warunków określonych w Programie, aktach prawnych oraz umow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3132000" y="5300640"/>
            <a:ext cx="3959280" cy="1152720"/>
          </a:xfrm>
          <a:prstGeom prst="cloudCallout">
            <a:avLst>
              <a:gd name="adj1" fmla="val -50722"/>
              <a:gd name="adj2" fmla="val -8016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trakcie realizacji operacji oraz do dnia upływu 5 lat od dnia dokonania przez Agencję płatności ostate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4280" y="71280"/>
            <a:ext cx="595008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7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187280" y="2695680"/>
            <a:ext cx="7072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698"/>
              </a:lnSpc>
              <a:spcBef>
                <a:spcPts val="799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możliwienie przedstawicielom Samorządu Województwa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wizyt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w miejscu zamieszkania lub siedzibie Beneficjenta, innych miejscach przechowywania dokumentów, oraz miejscach realizacji oper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spcBef>
                <a:spcPts val="799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możliwienie przedstawicielom Samorządu Województwa, Agencji, Ministerstwa Finansów, Ministerstwa Rolnictwa i Rozwoju Wsi, Komisji Europejskiej, organom kontroli państwowej i skarbowej oraz innym podmiotom upoważnionym do takich czynności,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dokonania audytów i kontrol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kumentacji związanej z realizacją operacji oraz zastosowania zaleceń pokontrolnych i poaudytowych lub dokonania audytów i kontroli w miejscu zamieszkania lub siedzibie Beneficjenta, innych miejscach przechowywania dokumentów oraz miejscach realizacji oper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cność Beneficjenta albo osoby upoważnionej przez Beneficjenta w trakcie wizytacji, kontroli i audytów w terminie wyznaczonym przez upoważnione podmio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AutoShape 4"/>
          <p:cNvSpPr/>
          <p:nvPr/>
        </p:nvSpPr>
        <p:spPr>
          <a:xfrm>
            <a:off x="5580000" y="476280"/>
            <a:ext cx="3456000" cy="1584360"/>
          </a:xfrm>
          <a:prstGeom prst="cloudCallout">
            <a:avLst>
              <a:gd name="adj1" fmla="val -51287"/>
              <a:gd name="adj2" fmla="val 7314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trakcie realizacji operacji oraz do dnia upływu 5 lat od dnia dokonania przez Agencję płatności ostate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8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03280" y="1915920"/>
            <a:ext cx="70725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zeznaczenie środków z płatności zaliczkowej (środków wyprzedzającego finansowani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yłącznie na realizację operacj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kreślonej w umow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wrot otrzymanych środków z płatności zaliczkowej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 kwocie przewyższającej równowartość 20% zatwierdzonej do wypłaty kwoty pomoc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nie później niż przed dniem dokonania płatności ostatecznej przez Agencj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275"/>
              </a:spcBef>
              <a:buSzPct val="18704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wrot, na wezwanie Agencji, środków z płatności zaliczkowej w terminie 14 dni od dnia doręczenia tego wezw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SzPct val="18985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az z odsetkami w wysokości jak dla zaległości podatkowych naliczanymi od dnia doręczenia Beneficjentowi tego wezwania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SzPct val="18704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 przypadku nadmiernego lub nienależnego pobrania tych środk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SzPct val="18985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az z odsetkami w wysokości jak dla zaległości podatkowych naliczanymi od dnia wypłaty środków wyprzedzającego finansowani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SzPct val="18704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 przypadku wykorzystania tych środków niezgodnie z przeznaczenie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SzPct val="1920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zwrotom podlega ta część środków, która została nadmiernie lub nienależnie pobrana lub wykorzystana niezgodnie z przeznaczenie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275"/>
              </a:spcBef>
              <a:buSzPct val="187040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9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618920" y="2276640"/>
            <a:ext cx="70722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wrot, na wezwanie Agencji, nienależnie lub nadmiernie pobranej kwoty pomocy w przypadku stwierdzenia niezgodności realizacji operacji z Programem, ustawą, rozporządzeniem, przepisami odrębnymi lub umową, a w szczególności zaistnienia okoliczności skutkujących rozwiązaniem umow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e ma obowiązku zwrotu pomocy w ramach operacji w części zrealizowanej zgodnie z warunkam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zrealizowano operacj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ypełniane są zobowiązania z umow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widłowa realizacja operacji lub usunięcie nieprawidłowości - w wyniku kontroli i wizytacji (w trakcie/na zakończenie operacj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l operacji został osiągnięty i zachow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eficjent uzyskał zwolnie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Akty prawne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76000" y="2060280"/>
            <a:ext cx="707220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Ustawa R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tawa z dnia 7 marca 2007 r. o wspieraniu rozwoju obszarów wiejskich z udziałem środków Europejskiego Funduszu Rolnego na rzecz Rozwoju Obszarów Wiejskich (Dz. U. Nr 64, poz. 427, z późn. zm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0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331640" y="1989000"/>
            <a:ext cx="70722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wadzeni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chunku bankow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alibri"/>
              </a:rPr>
              <a:t>prowadzenie 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Calibri"/>
              </a:rPr>
              <a:t>wyodrębnionego rachunku</a:t>
            </a:r>
            <a:r>
              <a:rPr b="0" lang="en-US" sz="2000" spc="-1" strike="noStrike">
                <a:solidFill>
                  <a:srgbClr val="cc6600"/>
                </a:solidFill>
                <a:latin typeface="Calibri"/>
              </a:rPr>
              <a:t>, jeśli przekazano płatność zaliczkow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70000"/>
              </a:lnSpc>
              <a:spcBef>
                <a:spcPts val="349"/>
              </a:spcBef>
              <a:buSzPct val="146906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dłożenie Samorządowi Województw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zaświadczenia wskazującego rachunek bankow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74"/>
              </a:spcBef>
              <a:buSzPct val="16473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raz z wnioskiem o płatność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74"/>
              </a:spcBef>
              <a:buSzPct val="16473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iezwłocznie w przypadku zmiany numeru tego rachunk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alibri"/>
              </a:rPr>
              <a:t>przedłożenia Samorządowi Województwa 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Calibri"/>
              </a:rPr>
              <a:t>zaświadczenia wskazującego wyodrębniony rachu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74"/>
              </a:spcBef>
              <a:buSzPct val="10289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6600"/>
                </a:solidFill>
                <a:latin typeface="Calibri"/>
              </a:rPr>
              <a:t>wraz z wnioskiem o wyprzedzające finansowan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74"/>
              </a:spcBef>
              <a:buSzPct val="10289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6600"/>
                </a:solidFill>
                <a:latin typeface="Calibri"/>
              </a:rPr>
              <a:t>niezwłocznie w przypadku zmiany numeru tego rachunk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1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47280" y="2133720"/>
            <a:ext cx="71866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informowanie Samorządu Województwa o miejscu przechowywania dokumentów związanych z realizacją oper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SzPct val="164731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terminie 14 dni od dnia zawarcia umow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c6600"/>
                </a:solidFill>
                <a:latin typeface="Calibri"/>
              </a:rPr>
              <a:t>jeżeli dokumenty te są przechowywane poza miejscem zamieszkania/siedzibą Beneficjen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500" spc="-1" strike="noStrike">
                <a:solidFill>
                  <a:srgbClr val="cc6600"/>
                </a:solidFill>
                <a:latin typeface="Calibri"/>
              </a:rPr>
              <a:t>w przypadku zmiany – 14 dni od dnia jej zaistnien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2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rozumiewanie się w formie pisemnej kierowanej na adres wskazany w treści umow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powołując się na numer umowy oraz datę jej zawarci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Beneficjent jest zobowiązany do niezwłocznego przesyłania do Samorządu Województwa pisemnej informacji o zmianie swoich danych zawartych w umow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trybie przewidzianym w art. 14 ustawy z dnia 18 grudnia 2003 r. o krajowym systemie ewidencji producentów, ewidencji gospodarstw rolnych oraz ewidencji wniosków o przyznanie płatności (Dz. U. z 2004 r. Nr 10, poz. 76, z późn. zm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przeciwnym wypadku wszelką korespondencję wysyłaną przez Samorząd Województwa zgodnie z posiadanymi przez niego danymi uznaje się za doręczoną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zmiana ta nie wymaga zmiany umow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3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łożenie do siedziby Samorządu Województwa, w którym została zawarta umowa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ypełniony formularz ankiety monitorujące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ktualny wzór jest dostępny na stronach internetowych Urzędów Marszałkowsk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terminie do dnia 31 stycznia drugiego roku kalendarzowego liczonego od roku otrzymania płatności ostatecznej – osoby fizyc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jpóźniej do 30 dni roboczych po zakończeniu roku obrotowego następującego po roku obrotowym, w którym otrzymana została płatność ostateczna – osoby prawne i jednostki organizacyjne nie posiadające osobowości prawn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4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71866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alibri"/>
              </a:rPr>
              <a:t>złożenie, na wezwanie LGD, która dokonała wyboru operacji do finansowania, wypełnionego formularza ankiety monitorując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alibri"/>
              </a:rPr>
              <a:t>według wzoru przekazanego przez LG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5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edłożenia Samorządowi Województwa dokumentacji z przeprowadzonego postępowania o udzielenie zamówienia publiczneg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zwłocznie po zawarciu umowy o przyznanie pomocy, w przypadku postępowania zakończonego przed dniem jej zawarcia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niezwłocznie po dniu zakończenia postępowania, w przypadku postępowania 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zakończonego po dniu zawarcia umowy o przyznanie pomocy lecz nie później niż 21 dni przed złożeniem wniosku o płatnoś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16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kumentacja PZ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 dokumentów przetargowych przygotowanych i ogłoszonych przez Zamawiającego, w tym ogłosze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ną dokumentację z przebiegu prac komisji przetargow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ną dokumentację dotyczącą powołania komisji przetargowej, jej składu i zasad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ną ofertę wybranego Wykonawcy wraz z umową zawartą z wybranym Wykonawc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ną dokumentację związaną z protestami i odwołaniami, jeżeli miały miejsce w danym postępowani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Zmiana umow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1/3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wniosek każdej ze st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maga zachowania formy pisemnej pod rygorem nieważnoś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oże powodować zwiększenia kwoty przyznanej pomo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oże powodować zmiany celu oper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oże powodować zmiany postanowienia dotyczącego „niefinansowania z innych środków publicznych z wyłączeniem FK i JST” oraz „osiągnięcia celu operacji i jego zachowania przez 5 lat (inwestycja)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Zmiana umow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2/3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e dotyczyć postanowień „nieprzenoszenia prawa własności lub posiadania rzeczy nabytych w ramach realizacji operacji oraz ich wykorzystania zgodnie z przeznaczeniem ” lub „niezmieniania sposobu lub miejsca prowadzenia działalności związanej z przyznaną pomocą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przypadku zaistnienia wyjątkowych okolicz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899"/>
              </a:lnSpc>
              <a:spcBef>
                <a:spcPts val="7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zmiany wysokości kosztów kwalifikowalnych operacji w wyniku przeprowadzonego przez Beneficjenta postępowania o udzielenie zamówienia publicznego, która ma wpływ na wysokość kwoty pomoc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Zmiana umow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3/3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niosek o dokonanie zmiany umowy dotycząc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y zakresu rzeczowego etapów lub wysokości transz Beneficjent skła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najpóźniej na 30 dni przed upływem terminu do złożenia wniosku o płatność w ramach etapu, którego zakres rzeczowy lub wysokość kosztów kwalifikowalnych operacji mają zostać zmienion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y terminu złożenia wniosku o płatność, Beneficjent skła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przed upływem terminu złożenia wniosku o płatnoś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na wezwanie Samorządu Województw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935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Akty prawn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rządzenie 4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rządzenie Ministra Rolnictwa i Rozwoju Wsi z dnia 8 lipca 2008 r. w sprawie szczegółowych warunków i trybu przyznawania oraz wypłaty pomocy finansowej w ramach działania „Wdrażanie lokalnych strategii rozwoju” objętego Programem Rozwoju Obszarów Wiejskich na lata 2007 – 2013 (Dz. U. Nr 138, poz. 868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rządzenie Ministra Rolnictwa i Rozwoju Wsi z dnia 27 kwietnia 2009 r. zmieniające rozporządzenie w sprawie szczegółowych warunków i trybu przyznawania oraz wypłaty pomocy finansowej w ramach działania „Wdrażanie lokalnych strategii rozwoju” objętego Programem Rozwoju Obszarów Wiejskich na lata 2007—2013 (Dz. U. z 2009 r. Nr 71, poz. 6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Rozwiązanie umow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1/5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331640" y="191592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ierozpoczęcie przez Beneficjenta realizacji operacji do końca terminu złożenia wniosku o płatność ostateczn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dstąpienie przez Beneficjenta od realizacji operac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iezłożenie wniosku o płatność w terminie wskazanym w umowie (lub na wezwani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dmowa wypłaty pomo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Rozwiązanie umow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2/5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wierdzenie nieprawidłowości związanych z ubieganiem się o przyznanie pomocy lub realizacją oper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SzPct val="18985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rozumieniu art. 2 rozporządzenia Komisji (WE) nr 1848/2006 z dnia 14 grudnia 2006 r. dotyczącego nieprawidłowości i odzyskiwania kwot niesłusznie wypłaconych w związku z finansowaniem wspólnej polityki rolnej oraz organizacji systemu informacyjnego w tej dziedzinie i uchylającego rozporządzenie Rady (EWG) nr 595/91 (Dz. Urz. UE L 355 z 15.12.2006, str. 56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SzPct val="1920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okresie realizacji operacji lub do dnia upływu 5 lat od dnia dokonania płatności ostateczne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kluczenie Beneficjenta z otrzymywania po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SzPct val="18985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 którym mowa w art. 31 ust. 2 rozporządzenia 1975/2006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275"/>
              </a:spcBef>
              <a:buSzPct val="18704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łożenie podrobionych, przerobionych, nierzetelnych lub stwierdzających nieprawdę dokumentów lub oświadczeń, mających wpływ na przyznanie lub wypłatę pomoc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275"/>
              </a:spcBef>
              <a:buSzPct val="18704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danie orzeczeń stwierdzających popełnienie przez Beneficjenta, w związku z ubieganiem się o przyznanie lub wypłatę pomocy, czynów zabronionych przepisami odrębny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Rozwiązanie umow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3/5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7186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egatywnej oceny wszystkich postępowań o udzielenie zamówienia publicznego w ramach opera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ypełnienia zobowiąza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zwłocznego informowania Samorządu Województwa o planowanych albo zaistniałych zdarzeniach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5 ust. 1 pkt 4 lit. 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dłożenia Samorządowi Województwa zaświadczenia (rachunek bankowy)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5 ust. 2 pkt 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informowania Samorządu Województwa o miejscu przechowywania dokumentów związanych z realizacją operacji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5 ust. 2 pkt 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łożyć do siedziby Samorządu Województwa, w którym została zawarta umowa, wypełniony formularz ankiety monitorującej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5 ust.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6227640" y="2708280"/>
            <a:ext cx="2592360" cy="792000"/>
          </a:xfrm>
          <a:prstGeom prst="wedgeEllipseCallout">
            <a:avLst>
              <a:gd name="adj1" fmla="val -92254"/>
              <a:gd name="adj2" fmla="val 8366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mimo wezwań S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Rozwiązanie umow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4/5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wypełnienia zobowiąza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iezwłocznego przedłożenia SW zaświadczenia (wyodrębniony rachunek bankowy), w przypadku zmiany numeru wyodrębnionego rachunku bankowego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informowania SW o zmianie miejsca przechowywania dokumentów związanych z realizacją operac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4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Calibri"/>
              </a:rPr>
              <a:t>Niewypełnianie pozostałych zobowiązań powoduje natychmiastowe rozwiązanie umow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3708360" y="2205000"/>
            <a:ext cx="5435640" cy="1295280"/>
          </a:xfrm>
          <a:prstGeom prst="wedgeEllipseCallout">
            <a:avLst>
              <a:gd name="adj1" fmla="val -38462"/>
              <a:gd name="adj2" fmla="val 812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śli niewypełnienie tego zobowiązania spowoduje uniemożliwienie przeprowadzenia audytu lub kontro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Rozwiązanie umow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5/5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47280" y="2332080"/>
            <a:ext cx="718668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iązanie umowy następuje po zakończeniu przez Agencję czynności związanych z odzyskaniem wypłaconej Beneficjentowi pomocy oraz płatności zaliczkow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85920" y="5571720"/>
            <a:ext cx="6500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c00000"/>
                </a:solidFill>
                <a:latin typeface="Calibri"/>
              </a:rPr>
              <a:t>Dziękuję za uwagę</a:t>
            </a:r>
            <a:endParaRPr b="0" lang="en-US" sz="43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463" name="Symbol zastępczy obrazu 23" descr="DSCN8852.jpg"/>
          <p:cNvPicPr/>
          <p:nvPr/>
        </p:nvPicPr>
        <p:blipFill>
          <a:blip r:embed="rId1"/>
          <a:srcRect l="0" t="4488" r="0" b="4488"/>
          <a:stretch/>
        </p:blipFill>
        <p:spPr>
          <a:xfrm>
            <a:off x="1428840" y="285840"/>
            <a:ext cx="7429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Podstawa przyznania pomocy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moc (…) jest przyznawana na podstawie umowy zawieranej, pod rygorem nieważności, w formie pisem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rt. 22 ust. 1 ustawy 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rmularz umowy przyznania pomocy zatwierdzony przez Ministra Rolnictwa i Rozwoju W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§ 17 ust. 1 rozporządzenia 4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Umowa przyznania pomocy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rmularz uzupełniony o informacje z poprawnie zweryfikowanego wniosku o przyznanie pomo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zypadku miejsc przeznaczonych do wypełnien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Treść umowy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mowa określa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prawa i obowiązki stron związane z realizacją oper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w rama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gramu Rozwoju Obszarów Wiejskich na lata 2007-2013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osi 4 „Leader”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ałania 413 „Wdrażanie LSR”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 u="sng">
                <a:solidFill>
                  <a:srgbClr val="000000"/>
                </a:solidFill>
                <a:uFillTx/>
                <a:latin typeface="Calibri"/>
              </a:rPr>
              <a:t>MAŁE PROJEK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Treść umowy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ytuł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ejsce/miejsca realizacji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okalna grupa działa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iczba etap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znana pomoc 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sokość transz, wysokość wyprzedzającego finansow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Miejsce realizacji operacji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476360" y="220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WESTY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724360" y="227664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SZAR L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4427640" y="24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332000" y="4149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IEINWESTY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5867280" y="3933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SZAR 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5867280" y="44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A OBSZAREM 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 flipV="1">
            <a:off x="4859280" y="414972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4859280" y="4508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Realizacja operacji </a:t>
            </a:r>
            <a:br>
              <a:rPr sz="4000"/>
            </a:b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(1/2)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285560" y="1916280"/>
            <a:ext cx="70722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Wykonanie zakresu rzeczowe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godnie z zestawieniem rzeczowo-finansowy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SzPct val="128673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Poniesienie przez Beneficjenta kosztów kwalifikowalnyc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 tym dokonanie płatności za dostawy, usługi lub roboty budowla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ie później niż do dnia złożenia wniosku o płatność lub ostatniego uzupełnienia tego wniosk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SzPct val="128673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SzPct val="128673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2:46:28Z</dcterms:created>
  <dc:creator>ltom</dc:creator>
  <dc:description/>
  <dc:language>en-US</dc:language>
  <cp:lastModifiedBy>KLukas</cp:lastModifiedBy>
  <dcterms:modified xsi:type="dcterms:W3CDTF">2009-11-17T07:37:32Z</dcterms:modified>
  <cp:revision>285</cp:revision>
  <dc:subject/>
  <dc:title>Podejście Leader</dc:title>
</cp:coreProperties>
</file>