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8210520" y="5943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831600" cy="583920"/>
          </a:xfrm>
          <a:prstGeom prst="rect">
            <a:avLst/>
          </a:prstGeom>
          <a:ln w="0">
            <a:noFill/>
          </a:ln>
        </p:spPr>
      </p:pic>
      <p:pic>
        <p:nvPicPr>
          <p:cNvPr id="4" name="Obraz 5" descr="end.JPG"/>
          <p:cNvPicPr/>
          <p:nvPr/>
        </p:nvPicPr>
        <p:blipFill>
          <a:blip r:embed="rId4"/>
          <a:stretch/>
        </p:blipFill>
        <p:spPr>
          <a:xfrm>
            <a:off x="0" y="0"/>
            <a:ext cx="1525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9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Tahoma"/>
              </a:rPr>
              <a:t>Różnice we wdrażaniu działania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Tahoma"/>
              </a:rPr>
              <a:t>„Odnowa i rozwój wsi”  Oś 3.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Tahoma"/>
              </a:rPr>
              <a:t>oraz operacji wdrażanych w ramach działania 4.1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Tahoma"/>
              </a:rPr>
              <a:t>odpowiadających warunkom przyznania w tym działani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Operacje odpowiadające warunkom przyznania pomocy w ramach działań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osi 3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.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„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Różnicowanie w kierunku działalności nierolniczej” (ARiMR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„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dnowa i rozwój wsi” (SW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„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Tworzenie i rozwój mikroprzedsiębiorstw” (ARiMR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 Małe projekty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(SW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85880" y="285480"/>
            <a:ext cx="7594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Działanie 4.1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„Wdrażanie lokalnych strategii rozwoju</a:t>
            </a: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2000160"/>
            <a:ext cx="7343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peracje kwalifikujące się do wsparcia w ramach osi 3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uszą być zgodne z LSR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uszą spełniać kryteria wyboru określone dla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poszczególnych działań osi 3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uszą spełniać kryteria dodatkowe określone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LSR przyjętej przez LGD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(tzw. lokalne kryteria wyboru)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nioski o przyznanie pomocy składa się za pośrednictwem LGD do odpowiedniego podmiotu wdrażającego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358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Różnice we wdrażaniu działania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„Odnowa i rozwój wsi”  Oś 3.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oraz operacji wdrażanych w ramach działania 4.1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odpowiadających warunkom przyznania w tym działaniu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240" y="1714320"/>
            <a:ext cx="7272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nioskodawca ma miejsce zamieszkania albo siedzibę, prowadzi działalność na obszarze objętym LSR lub realizuje operację na obszarze objętym LSR;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Pomoc może być przyznana na więcej niż 3 operacje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każdej gminie,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SW nie przyznaje dodatkowych punktów planowanej operacji (za bezrobocie, dochód gminy, kryterium regionalne),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SW nie przyznaje dodatkowych punktów planowanej operacji za zmniejszenie wnioskowanej kwoty,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Pomoc przysługuje według kolejności na liście operacji wybranych przez LGD – nie ma drugiego rankingu po ocenie SW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00120" y="35676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Różnice we wdrażaniu działania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„Odnowa i rozwój wsi”  Oś 3.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oraz operacji wdrażanych w ramach działania 4.1 </a:t>
            </a:r>
            <a:br>
              <a:rPr sz="1800"/>
            </a:br>
            <a:r>
              <a:rPr b="1" lang="pl-PL" sz="1800" spc="-1" strike="noStrike">
                <a:solidFill>
                  <a:srgbClr val="002060"/>
                </a:solidFill>
                <a:latin typeface="Tahoma"/>
              </a:rPr>
              <a:t>odpowiadających warunkom przyznania w tym działani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240" y="1571760"/>
            <a:ext cx="727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na operacje z zakresu „Odnowa i rozwój wsi”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można uzyskać: 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500 tys. zł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raz na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raz operacje wdrażane w ramach działania 4.1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dpowiadające warunkom przyznania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działaniu „Odnowa i rozwój wsi”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można uzyskać : </a:t>
            </a: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500 tys. zł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Verdana"/>
              </a:rPr>
              <a:t>2 x 500 tys. zł = 1000 000 z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2060"/>
                </a:solidFill>
                <a:latin typeface="Verdana"/>
              </a:rPr>
              <a:t>LGD mogła w LSR obniżyć kwotę pomocy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2060"/>
                </a:solidFill>
                <a:latin typeface="Verdana"/>
              </a:rPr>
              <a:t>(kryteria zgodności/wyboru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00120" y="357120"/>
            <a:ext cx="69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Tahoma"/>
              </a:rPr>
              <a:t>Limity wysokości udzielanej pomocy na jednego beneficjenta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Tahoma"/>
              </a:rPr>
              <a:t>w Osi 3. i w Osi 4. nie sumują się co oznacza, ż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68151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Dziękuję za uwag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544" b="18008"/>
          <a:stretch/>
        </p:blipFill>
        <p:spPr>
          <a:xfrm>
            <a:off x="1285920" y="1928880"/>
            <a:ext cx="75009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7:48Z</dcterms:created>
  <dc:creator>leader</dc:creator>
  <dc:description/>
  <dc:language>en-US</dc:language>
  <cp:lastModifiedBy>SStaniuk</cp:lastModifiedBy>
  <dcterms:modified xsi:type="dcterms:W3CDTF">2009-11-17T07:58:08Z</dcterms:modified>
  <cp:revision>175</cp:revision>
  <dc:subject/>
  <dc:title>TITRE EN MAJUSCULES</dc:title>
</cp:coreProperties>
</file>