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8210520" y="5943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77320" y="304920"/>
            <a:ext cx="831600" cy="583920"/>
          </a:xfrm>
          <a:prstGeom prst="rect">
            <a:avLst/>
          </a:prstGeom>
          <a:ln w="0">
            <a:noFill/>
          </a:ln>
        </p:spPr>
      </p:pic>
      <p:pic>
        <p:nvPicPr>
          <p:cNvPr id="4" name="Obraz 5" descr="end.JPG"/>
          <p:cNvPicPr/>
          <p:nvPr/>
        </p:nvPicPr>
        <p:blipFill>
          <a:blip r:embed="rId4"/>
          <a:stretch/>
        </p:blipFill>
        <p:spPr>
          <a:xfrm>
            <a:off x="0" y="0"/>
            <a:ext cx="1525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cf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09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Verdana"/>
                <a:ea typeface="Cambria Math"/>
              </a:rPr>
              <a:t>Koszty kwalifikowalne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Verdana"/>
                <a:ea typeface="Cambria Math"/>
              </a:rPr>
              <a:t>„małych projektów”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tj. operacji , które nie odpowiadają warunkom przyznania pomocy w ramach działań Osi 3., ale przyczyniają się do osiągnięcia celów tej osi.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928800"/>
            <a:ext cx="7486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Verdana"/>
                <a:ea typeface="Cambria Math"/>
              </a:rPr>
              <a:t>Koszty kwalifikowalne</a:t>
            </a:r>
            <a:br>
              <a:rPr sz="3200"/>
            </a:br>
            <a:r>
              <a:rPr b="1" lang="pl-PL" sz="3200" spc="-1" strike="noStrike">
                <a:solidFill>
                  <a:srgbClr val="002060"/>
                </a:solidFill>
                <a:latin typeface="Verdana"/>
                <a:ea typeface="Cambria Math"/>
              </a:rPr>
              <a:t> musza być </a:t>
            </a:r>
            <a:br>
              <a:rPr sz="3200"/>
            </a:br>
            <a:r>
              <a:rPr b="1" lang="pl-PL" sz="3200" spc="-1" strike="noStrike">
                <a:solidFill>
                  <a:srgbClr val="002060"/>
                </a:solidFill>
                <a:latin typeface="Verdana"/>
                <a:ea typeface="Cambria Math"/>
              </a:rPr>
              <a:t>zawsze czytane razem </a:t>
            </a:r>
            <a:br>
              <a:rPr sz="3200"/>
            </a:br>
            <a:r>
              <a:rPr b="1" lang="pl-PL" sz="3200" spc="-1" strike="noStrike">
                <a:solidFill>
                  <a:srgbClr val="002060"/>
                </a:solidFill>
                <a:latin typeface="Verdana"/>
                <a:ea typeface="Cambria Math"/>
              </a:rPr>
              <a:t>z zakresem pomocy </a:t>
            </a:r>
            <a:br>
              <a:rPr sz="3200"/>
            </a:br>
            <a:r>
              <a:rPr b="1" lang="pl-PL" sz="3200" spc="-1" strike="noStrike">
                <a:solidFill>
                  <a:srgbClr val="002060"/>
                </a:solidFill>
                <a:latin typeface="Verdana"/>
                <a:ea typeface="Cambria Math"/>
              </a:rPr>
              <a:t>małych projektów!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214280" y="61200"/>
            <a:ext cx="7243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856800"/>
            <a:ext cx="75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a) przygotowania dokumentacji technicznej małego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ojektu, obejmujące koszty: kosztorysów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ojektów architektonicznych lub budowlanych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dokumentacji geologicznej lub hydrologicznej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ypisów lub wyrysów z katastru nieruchomości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b) opłat za patenty lub licencje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c) badań lub analiz,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Jeżeli zachodzi potrzeba wykonania badań lub analiz obszaru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drażania LSR innych niż na potrzeby jednego m.p. może je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ykonać LGD w ramach „Funkcjonowania…” lub „Wdrażania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projektu współpracy”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d) sprawowania nadzoru autorskiego lub inwestorskiego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Nie więcej niż </a:t>
            </a:r>
            <a:r>
              <a:rPr b="1" i="1" lang="pl-PL" sz="2000" spc="-1" strike="noStrike">
                <a:solidFill>
                  <a:srgbClr val="002060"/>
                </a:solidFill>
                <a:latin typeface="Verdana"/>
              </a:rPr>
              <a:t>10% </a:t>
            </a:r>
            <a:br>
              <a:rPr sz="2000"/>
            </a:b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Verdana"/>
              </a:rPr>
              <a:t>pozostałych kosztów kwalifikowalny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356840" y="214200"/>
            <a:ext cx="71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Tahoma"/>
              </a:rPr>
              <a:t>1. Koszty ogól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500040"/>
            <a:ext cx="79293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2. robót budowlanych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-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budowy, a także prac polegających na przebudowie, montażu,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remoncie lub rozbiórce obiektu budowlanego,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- prace konserwatorskie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3. wynagrodzenia za świadczenie usług, w tym usług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awniczych lub księgowych;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- nadzór konserwatorski,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- koordynacji operacji (tylko w uzasadnionych przypadkach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- najmu autokaru na szkolenia zamiejscowe…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Nie ma możliwości wystawienia faktury/rachunku za samodzielne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ykonanie  usługi przez Beneficjenta (jedyną możliwością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wniesienia wymiernego wkładu do projektu jest przeliczenie na 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liczbę godzin pracy własnej)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4. podłączenia do Internetu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863640" y="-11736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42600"/>
            <a:ext cx="7858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5. opracowania, druku lub powielenia oraz dystrybucji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materiałów informacyjnych lub szkoleniowych, w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tym audiowizualnych, dotyczących małego projektu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zakupu lub wynajęcia powierzchni reklamowych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zakupu czasu antenowego oraz zamieszczeni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materiałów prasowych w prasi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6. najmu sal lub innych powierzchni lub dzierżawy gruntu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7. zakupu materiałów lub przedmiotów, w tym materiału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iewnego lub nasadzeniowego roślin wieloletnich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863640" y="-1044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240" y="928800"/>
            <a:ext cx="7558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8. zakupu, najmu lub dzierżawy oraz montażu maszyn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urządzeń, narzędzi, wyposażenia, sprzętu lub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programowania, z wyłączeniem środków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transportu, przy czym koszt zakupu podlega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refundacji jedynie w przypadku gdy koszt najmu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albo dzierżawy przekraczałby koszt zakupu;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Od wypożyczenia można odstąpić, gdy dany sprzęt/ urządzenia będą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wykorzystywane przez Beneficjenta wielokrotnie zgodnie z celem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projektu także po zakończeniu projektu (np.: instrumenty dla zespołu 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folklorystycznego).</a:t>
            </a:r>
            <a:br>
              <a:rPr sz="1400"/>
            </a:b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9. organizacji i przeprowadzenia wydarzeń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omocyjnych, kulturalnych, rekreacyjnych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lub sportowych;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: wynagrodzeń dla koordynatora , wynagrodzeń dla sędziów na 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zawodach sportowych, ubezpieczenia, ochrony, wynajmu 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pomieszczeń…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863640" y="9684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71720" y="713880"/>
            <a:ext cx="79293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0. wytyczenia lub oznakowania szlaków turystycznych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ścieżek dydaktycznych lub przyrodniczych, w tym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mników przyrody, obiektów małej infrastruktury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turystycznej, obiektów historycznych,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zyrodniczych, kulturowych lub sakralnych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1. utworzenia lub aktualizacji baz danych, w tym bazy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informacji turystycznej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2. tworzenia stron internetowych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63640" y="-14040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928440"/>
            <a:ext cx="77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3. upominków lub nagród do łącznej wysokości 5%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zostałych kosztów podlegających refundacji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 ramach realizacji małych projektów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Nie przewiduje się kwialifikowania nagród pieniężnych.</a:t>
            </a:r>
            <a:br>
              <a:rPr sz="2000"/>
            </a:b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4. wynagrodzenia lub pobytu osób prowadzących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zkolenia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5. podróży lub wyżywienia uczestników szkoleń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6. noclegu uczestników szkoleń – w przypadku szkoleń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trwających co najmniej dwa dni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17. tłumaczeń, jeżeli osoby prowadzące szkolenia nie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osługują się językiem polskim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863640" y="25560"/>
            <a:ext cx="7594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7:48Z</dcterms:created>
  <dc:creator>leader</dc:creator>
  <dc:description/>
  <dc:language>en-US</dc:language>
  <cp:lastModifiedBy>SStaniuk</cp:lastModifiedBy>
  <dcterms:modified xsi:type="dcterms:W3CDTF">2009-11-27T11:37:41Z</dcterms:modified>
  <cp:revision>159</cp:revision>
  <dc:subject/>
  <dc:title>TITRE EN MAJUSCULES</dc:title>
</cp:coreProperties>
</file>