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175-A8A5-46FD-83B0-6D3B9C43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ADA-D461-4614-8B33-D336BD72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433-381C-43D8-8FF7-C9C4DB1B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A7A-E493-4EC2-9879-964B5702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CEAB-42E1-42CB-A9FF-EA863B52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94E9-FA32-430C-A35B-E8191DC4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4DAF-1AC2-4362-ABB3-A3116E71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54DB-CADE-473B-A49B-1FA86440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5917-BE73-4662-B4AB-0DE0F417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8DF9-8613-41ED-9F97-2DF875C9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D86F-60D9-49DC-9C60-FD0502EA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B15-EC66-4242-BC72-E283C126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1643-93AC-4CDD-A9AB-B788CF79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D710-E561-4D6E-8731-97BFBA21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40B6-D822-40BA-998C-54483B49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7ACB-7E66-45DA-880E-9B9AD075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DAE5-06A1-4E6B-AA08-06EC27CE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EF27-7D18-4503-BDDA-24310671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3CF1-BA61-43B2-B017-F63AAA6D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7AA9-9855-4243-82A9-A809344A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C70B-E73B-47B4-94E7-E23195FB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8C26-3E60-4AEF-9777-442A72AA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36C-01DA-4D8A-BC01-A8883F28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522C8-0EA9-4296-AD01-5F65181F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8580-0156-4FFE-9A02-E3DDB1A9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55A6-EBF9-4000-9471-2A26BDDC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A110-ED3A-48C9-951D-B034489B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03F4-0514-4CAF-9015-AEEEDFFE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36065-6EE2-4426-ABF9-D32E1380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A39C-A2E1-47D8-BC6E-091FA36D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ABC5A-77A4-43FD-BF4B-8A736799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CF3FF-54F6-4AD7-A980-079CEF35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20F3-F8A5-4F85-B950-9CEE84A3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342-727B-4F57-A433-4D73B173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C39B-74BD-45B3-BBE1-2E87858A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8B7D1-7F3A-43DB-BF56-745813CD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8B37B-36EC-4F60-ACCC-000FFF8D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9CB04-816D-41D5-A540-E29DBC93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F5CB-072A-4A3A-BB49-1B3A1DFF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0DB7B-D1CA-403D-B0D4-933A8D3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A30CE-320E-40AF-A1AE-9701D086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F209-99D4-43AC-B944-FCB799B2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5BC4-CA1D-45D5-816B-2D9F2226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A14AF-8B24-4D83-BCC3-73E90386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035-2B44-4564-B05B-847D9C85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E724F-648A-4488-8D6F-4C3205F6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B120-438C-4295-BCC5-8113717A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36EDC-76EE-4A6B-A45E-A8715592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24452-0C83-484B-9A4C-56652995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F8D11-2601-4BEC-AB3C-8ADF432F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52875-7AD9-4E5B-BF0E-6D051DC3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27D63-D919-4774-8D24-3B36AB0E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488B-3169-4819-8922-20BDC096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A01D6-5F6D-4650-8567-14184663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2FE8-7C7B-4596-AC5C-3B22E3FC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BF8-2164-47D8-97D3-BBC1FC66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93D82-E0BA-4431-B5E7-8B00F0EB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CDD67-5D5F-4458-B68C-5E68BBAC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7AED7-735D-49E9-A8F3-B57D6130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9F8C1-5A3D-4890-A6E4-7C985F3C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F19B-C08D-4AC6-882E-7F72A7B0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AC4EA-5C37-4077-844C-7D1D3A21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8E2DD-D887-465D-9612-FF693403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31B79-61CA-479E-A5C3-F052EB68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E0385-4F51-41DE-8ECE-5906D387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589F5-5E4D-4FFB-8069-D1FDE60F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E14-356E-4355-951B-419EDF49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CC33A-B80E-40A3-BB91-548F5C45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3172-943A-4BA0-90C7-D103A2BE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1B60D-0856-4BFF-B6CA-AD35BA7D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5532D-05AB-4072-B77C-E0E9211A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189A7-69AB-406B-9E30-E4F2F2A8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10CB3-474B-4B81-8B5C-A90C7CC8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28D2A-EE23-4EC3-860F-978547E3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E824B-D525-4AF2-A89C-18259DBE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82E8B-3D0E-4415-B842-BD9264DD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27D88-74D8-4F3B-AFC1-953072F0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2E6-8D68-43F6-B5FF-9E25C8C6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8A1AD-161E-4376-8594-3B7FE9B5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20AFA-E053-4087-B390-B078A273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69874-9AB5-4F94-9935-FA7CB826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CEC4F-3EF3-4F22-8128-99347EC1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D8043-5132-418A-83E7-9C63804E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D1350-D356-452B-98B6-73C6641F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4D425-4894-42D7-86B3-90759286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DCA4F-7BDE-4031-A728-948A3254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6D61F-610C-4423-826C-904DE1AA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E969D-71EF-4455-B9F1-547EDAE5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C24-F7A0-467B-85FF-CC7FED51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5E226-4EF9-4EF6-B135-43105640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03A96-223A-449B-B69C-344FD7A1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7EA78-BA98-4DF2-A452-BBBE4587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513BB-651D-42AD-8971-AFC34DA6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499760" y="3964320"/>
            <a:ext cx="71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B0D53-DF5A-4036-8AF9-D22952B8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82200" y="160020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49976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82200" y="3964320"/>
            <a:ext cx="350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4A518-667A-4CF4-A432-343308DC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92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359400" y="160020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49976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92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359400" y="3964320"/>
            <a:ext cx="231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C7DA4-BDBC-43FE-996B-9B70516C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32BE-6DD4-40C2-8B6A-D9080EA2E5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Kasia z wysypką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42" name="Obraz 7" descr="Leader 07-13.jpg"/>
          <p:cNvPicPr/>
          <p:nvPr/>
        </p:nvPicPr>
        <p:blipFill>
          <a:blip r:embed="rId3"/>
          <a:stretch/>
        </p:blipFill>
        <p:spPr>
          <a:xfrm>
            <a:off x="5786280" y="4786200"/>
            <a:ext cx="943200" cy="928800"/>
          </a:xfrm>
          <a:prstGeom prst="rect">
            <a:avLst/>
          </a:prstGeom>
          <a:ln w="0">
            <a:noFill/>
          </a:ln>
        </p:spPr>
      </p:pic>
      <p:pic>
        <p:nvPicPr>
          <p:cNvPr id="43" name="Obraz 8" descr="MRiRW[1].jpg"/>
          <p:cNvPicPr/>
          <p:nvPr/>
        </p:nvPicPr>
        <p:blipFill>
          <a:blip r:embed="rId4"/>
          <a:stretch/>
        </p:blipFill>
        <p:spPr>
          <a:xfrm>
            <a:off x="2143080" y="4786200"/>
            <a:ext cx="987480" cy="928800"/>
          </a:xfrm>
          <a:prstGeom prst="rect">
            <a:avLst/>
          </a:prstGeom>
          <a:ln w="0">
            <a:noFill/>
          </a:ln>
        </p:spPr>
      </p:pic>
      <p:pic>
        <p:nvPicPr>
          <p:cNvPr id="44" name="Obraz 9" descr="PROW2007-2013[2].jpg"/>
          <p:cNvPicPr/>
          <p:nvPr/>
        </p:nvPicPr>
        <p:blipFill>
          <a:blip r:embed="rId5"/>
          <a:stretch/>
        </p:blipFill>
        <p:spPr>
          <a:xfrm>
            <a:off x="3571920" y="4786200"/>
            <a:ext cx="1714320" cy="91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DB2F-99F8-449E-9EDD-081D82035C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7" descr="Leader 07-13.jpg"/>
          <p:cNvPicPr/>
          <p:nvPr/>
        </p:nvPicPr>
        <p:blipFill>
          <a:blip r:embed="rId2"/>
          <a:stretch/>
        </p:blipFill>
        <p:spPr>
          <a:xfrm>
            <a:off x="8001000" y="571500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87" name="Obraz 6" descr="Leader baner.jpg"/>
          <p:cNvPicPr/>
          <p:nvPr/>
        </p:nvPicPr>
        <p:blipFill>
          <a:blip r:embed="rId3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CBB0-7179-42F0-B28D-2C74A0F504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Obraz 6" descr="Leader baner.jpg"/>
          <p:cNvPicPr/>
          <p:nvPr/>
        </p:nvPicPr>
        <p:blipFill>
          <a:blip r:embed="rId2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Obraz 7" descr="Leader 07-13'.jpg"/>
          <p:cNvPicPr/>
          <p:nvPr/>
        </p:nvPicPr>
        <p:blipFill>
          <a:blip r:embed="rId3"/>
          <a:srcRect l="0" t="0" r="2280" b="0"/>
          <a:stretch/>
        </p:blipFill>
        <p:spPr>
          <a:xfrm>
            <a:off x="8172360" y="5867280"/>
            <a:ext cx="925560" cy="928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B34F-3678-444F-BD2F-DC8F91780D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Obraz 6" descr="Leader baner.jpg"/>
          <p:cNvPicPr/>
          <p:nvPr/>
        </p:nvPicPr>
        <p:blipFill>
          <a:blip r:embed="rId2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5E98-AC6B-4312-AE69-5CF5F98283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Obraz 6" descr="Leader baner.jpg"/>
          <p:cNvPicPr/>
          <p:nvPr/>
        </p:nvPicPr>
        <p:blipFill>
          <a:blip r:embed="rId2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Obraz 7" descr="Leader 07-13'.jpg"/>
          <p:cNvPicPr/>
          <p:nvPr/>
        </p:nvPicPr>
        <p:blipFill>
          <a:blip r:embed="rId3"/>
          <a:srcRect l="0" t="0" r="2280" b="0"/>
          <a:stretch/>
        </p:blipFill>
        <p:spPr>
          <a:xfrm>
            <a:off x="8072280" y="5786280"/>
            <a:ext cx="925560" cy="928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485A-7DC6-4589-936B-F1C2344897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Obraz 6" descr="Leader baner.jpg"/>
          <p:cNvPicPr/>
          <p:nvPr/>
        </p:nvPicPr>
        <p:blipFill>
          <a:blip r:embed="rId2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0FF6-C2CB-4100-A3E3-6A16CB00A9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Obraz 6" descr="Leader baner.jpg"/>
          <p:cNvPicPr/>
          <p:nvPr/>
        </p:nvPicPr>
        <p:blipFill>
          <a:blip r:embed="rId2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8988-BFCD-4F74-A02F-11981E920F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Obraz 6" descr="end.JPG"/>
          <p:cNvPicPr/>
          <p:nvPr/>
        </p:nvPicPr>
        <p:blipFill>
          <a:blip r:embed="rId2"/>
          <a:srcRect l="0" t="0" r="6680" b="0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8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2920" y="157140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0000"/>
                </a:solidFill>
                <a:latin typeface="Calibri"/>
              </a:rPr>
              <a:t>Umowa przyznania pomocy</a:t>
            </a:r>
            <a:endParaRPr b="0" lang="en-US" sz="43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57200" y="5714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listopad 2009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42920" y="4143240"/>
            <a:ext cx="88581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atarzyna Łukasiewic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nisterstwo Rolnictwa i Rozwoju W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ytuł 1"/>
          <p:cNvSpPr/>
          <p:nvPr/>
        </p:nvSpPr>
        <p:spPr>
          <a:xfrm>
            <a:off x="0" y="2143080"/>
            <a:ext cx="91440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00000"/>
                </a:solidFill>
                <a:latin typeface="Calibri"/>
              </a:rPr>
              <a:t>w ramach działania</a:t>
            </a:r>
            <a:br>
              <a:rPr sz="2800"/>
            </a:br>
            <a:r>
              <a:rPr b="0" lang="pl-PL" sz="2800" spc="-1" strike="noStrike">
                <a:solidFill>
                  <a:srgbClr val="c00000"/>
                </a:solidFill>
                <a:latin typeface="Calibri"/>
              </a:rPr>
              <a:t>413 Wdrażanie lokalnych strategii rozwoj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c00000"/>
                </a:solidFill>
                <a:uFillTx/>
                <a:latin typeface="Arial"/>
              </a:rPr>
              <a:t>ODNOWA I ROZWÓJ W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Realizacja operacji </a:t>
            </a:r>
            <a:br>
              <a:rPr sz="4000"/>
            </a:b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(1/3)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285560" y="1916280"/>
            <a:ext cx="70722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Wykonanie zakresu rzeczowe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godnie z zestawieniem rzeczowo-finansowy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SzPct val="128673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Poniesienie przez Beneficjenta kosztów kwalifikowalnyc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 tym dokonanie płatności za dostawy, usługi lub roboty budowla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ie później niż do dnia złożenia wniosku o płatność lub ostatniego uzupełnienia tego wniosk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SzPct val="128673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Realizacja operacji</a:t>
            </a:r>
            <a:br>
              <a:rPr sz="4000"/>
            </a:b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(2/3)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dokumentowanie wykonania robót budowlanych, dostaw, usług w zakresie rzeczowym i finansowym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zyskanie wymaganych opinii, zaświadczeń, uzgodnień, pozwoleń, lub decyzji związanych z realizacją tej operacj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Zamontowanie oraz uruchomienie urządze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Realizacja operacji</a:t>
            </a:r>
            <a:br>
              <a:rPr sz="4000"/>
            </a:b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(3/3)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18920" y="22050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acja operacji lub jej etapu następować może od dnia złożenia wniosku o przyznanie pomo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 wyłączeniem zadań związanych z kosztami ogólnymi, które mogą być ponoszone nie wcześniej niż od dnia 1 stycznia 2007 ro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Zobowiązania Wnioskodawcy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(1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285560" y="2060280"/>
            <a:ext cx="70722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łnienie warunków określonych w PROW 2007-2013 oraz aktach prawn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acja oper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miejscach wskazanych w umow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2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331640" y="1125360"/>
            <a:ext cx="7072200" cy="42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łożenie wniosku/wniosków o płatnoś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zór formularza – strona www U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ejsce wskazane w informacji na stronie www 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raz z dokumentami niezbędnymi do wypłaty środków finansowych z tytułu pomocy, których wykaz zawiera formularz wniosku o płatnoś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wniosku o płatność ostateczną Beneficjent załącza sprawozdanie z realizacji operacji, na formularzu udostępnionym przez Samorząd Wojewódz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3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331640" y="1955880"/>
            <a:ext cx="70722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iągnięcie celu oper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chowanie celu oper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/>
          <p:nvPr/>
        </p:nvSpPr>
        <p:spPr>
          <a:xfrm>
            <a:off x="3348000" y="4221000"/>
            <a:ext cx="4680000" cy="1944720"/>
          </a:xfrm>
          <a:prstGeom prst="cloudCallout">
            <a:avLst>
              <a:gd name="adj1" fmla="val -51662"/>
              <a:gd name="adj2" fmla="val -834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trakcie realizacji operacji oraz do dnia upływu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t od dnia dokonania przez Agencję płatności ostatecz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4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1866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finansowanie realizacji operacji z udziałem innych środków publiczny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wyjątk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niesienie kosztów, stanowiących podstawę wyliczenia pomocy w formie rozliczenia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ezgotówkowego za pomocą polecenia przelewu za pośrednictwem rachunku bankoweg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5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116000" y="1341360"/>
            <a:ext cx="51847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2398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przenoszenia, bez zgody Samorządu Województwa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wa własności lub posiadania nabytych dóbr oraz  wykorzystywania zgodnie z przeznaczeniem i celem operacji wybudowanych, przebudowanych, wyremontowanych lub zmodernizowanych budynków i budowli, na które została przyznana i wypłacona pomo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chowywanie całości dokumentacji związanej z przyznaną pomocą, z wyłączeniem dokumentów, których oryginały znajdują się w siedzibie Urzędu Marszałkowski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AutoShape 10"/>
          <p:cNvSpPr/>
          <p:nvPr/>
        </p:nvSpPr>
        <p:spPr>
          <a:xfrm>
            <a:off x="6012000" y="3716280"/>
            <a:ext cx="3132000" cy="1584360"/>
          </a:xfrm>
          <a:prstGeom prst="cloudCallout">
            <a:avLst>
              <a:gd name="adj1" fmla="val -66370"/>
              <a:gd name="adj2" fmla="val 9238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 trakcie realizacji operacji oraz do dnia upływu 5 lat od dnia dokonania przez Agencję płatności ostate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24360" y="981000"/>
            <a:ext cx="3419640" cy="1657440"/>
          </a:xfrm>
          <a:prstGeom prst="cloudCallout">
            <a:avLst>
              <a:gd name="adj1" fmla="val -39787"/>
              <a:gd name="adj2" fmla="val 7471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 trakcie realizacji operacji oraz do dnia upływu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at od dnia dokonania przez Agencję płatności ostate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6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499760" y="1773000"/>
            <a:ext cx="7186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zwłoczne informowanie Samorządu Województwa o planowanych albo zaistniałych zdarzeniach związanych ze zmianą sytuacji faktycznej lub prawnej Beneficjenta w zakresie mogącym mieć wpływ na realizację operacji zgodnie z umową, wypłatę pomocy lub spełnienie warunków określonych w Programie, aktach prawnych oraz um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3132000" y="5300640"/>
            <a:ext cx="3959280" cy="1152720"/>
          </a:xfrm>
          <a:prstGeom prst="cloudCallout">
            <a:avLst>
              <a:gd name="adj1" fmla="val -21611"/>
              <a:gd name="adj2" fmla="val -12038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 trakcie realizacji operacji oraz do dnia upływu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at od dnia dokonania przez Agencję płatności ostate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14280" y="71280"/>
            <a:ext cx="595008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7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87280" y="2695680"/>
            <a:ext cx="7072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698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możliwienie przedstawicielom Samorządu Województwa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wizyt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w miejscach realizacji operacj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raz kontroli na miejs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możliwienie przedstawicielom Samorządu Województwa, Agencji, Ministerstwa Finansów, Ministerstwa Rolnictwa i Rozwoju Wsi, Komisji Europejskiej, organom kontroli państwowej i skarbowej oraz innym podmiotom upoważnionym do takich czynności,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dokonania audytów i kontrol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kumentacji związanej z realizacją operacji oraz zastosowania zaleceń pokontrolnych i poaudytowych lub dokonania audytów i kontroli w miejscach realizacji operacj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ub siedzibie Beneficj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cność Beneficjenta albo osoby upoważnionej przez Beneficjenta w trakcie wizytacji, kontroli i audytów w terminie wyznaczonym przez upoważnione podmio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5580000" y="476280"/>
            <a:ext cx="3456000" cy="1584360"/>
          </a:xfrm>
          <a:prstGeom prst="cloudCallout">
            <a:avLst>
              <a:gd name="adj1" fmla="val -51287"/>
              <a:gd name="adj2" fmla="val 7314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 trakcie realizacji operacji oraz do dnia upływu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at od dnia dokonania przez Agencję płatności ostate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Akty prawne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76000" y="1628280"/>
            <a:ext cx="7072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Ustawa R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tawa z dnia 7 marca 2007 r. o wspieraniu rozwoju obszarów wiejskich z udziałem środków Europejskiego Funduszu Rolnego na rzecz Rozwoju Obszarów Wiejskich (Dz. U. Nr 64, poz. 427, z późn. zm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Calibri"/>
              </a:rPr>
              <a:t>rozporządzenie Ministra Rolnictwa i Rozwoju Wsi z dnia 14 lutego 2008 r. w sprawie szczegółowych warunków i trybu przyznawania pomocy finansowej w ramach działania „Odnowa i rozwój wsi” objętego Programem Rozwoju Obszarów Wiejskich na lata 2007-2013 (Dz. U. Nr 38, poz. 220 oraz Nr 156, poz. 974)</a:t>
            </a:r>
            <a:r>
              <a:rPr b="0" lang="pl-PL" sz="3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8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71866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ieszczenia w miejscach realizacji operacj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blicy informacyjnej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 przypadku operacji, której koszt całkowity przekracza równowartość 50 000 EURO lub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blicy reklamowej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 przypadku operacji, której koszt całkowity przekracza równowartość 500 000 EUR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o finansowaniu operacji ze środków Unii Europejskiej, wykonanej zgodnie z przepisami rozporządzenia 1974/2006 oraz z warunkami określonymi w Księdze wizualizacji znaku Programu Rozwoju Obszarów Wiejskich na lata 2007-2013, niezwłocznie po zawarciu niniejszej umow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cz nie później niż do dnia złożenia wniosku o płatność ostateczn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9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ładanie ankiet monitorujących w siedzibie UM na wzorze udostępnionym przez Samorząd Województwa, w przypadku, gdy Beneficjent realizuje operację zakwalifikowaną do typu operacji „zaspokajanie potrzeb społecznych w zakresie turystyki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terminie do 31 stycznia roku następującego po roku obrotowym, w którym otrzymana została płatność ostateczna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zez 5 kolejnych lat kalendarzow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0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alibri"/>
              </a:rPr>
              <a:t>złożenie, na wezwanie LGD, która dokonała wyboru operacji do finansowania, wypełnionego formularza ankiety monitorując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alibri"/>
              </a:rPr>
              <a:t>według wzoru przekazanego przez LG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1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618920" y="2276640"/>
            <a:ext cx="70722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wrot, na wezwanie Agencji, nienależnie lub nadmiernie pobranej kwoty pomocy w przypadku stwierdzenia niezgodności realizacji operacji z Programem, ustawą, rozporządzeniami, przepisami odrębnymi lub umową, a w szczególności zaistnienia okoliczności skutkujących rozwiązaniem um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2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331640" y="1989000"/>
            <a:ext cx="70722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wadzeni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achunku bank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zedłożenie Samorządowi Województw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zaświadczenia wskazującego rachunek bank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zwłocznie w przypadku zmiany numeru tego rachu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3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47280" y="2133720"/>
            <a:ext cx="71866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formowanie Samorządu Województwa o miejscu przechowywania dokumentów związanych z realizacją operacj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 terminie 14 dni od dnia zawarcia umow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żeli dokumenty te są przechowywane poza siedzibą Beneficj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 przypadku zmiany – 14 dni od dnia jej zaistnie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4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285560" y="157140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rozumiewanie się w formie pisemnej kierowanej na adres wskazany w treści umow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powołując się na numer umowy oraz datę jej zawarci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Beneficjent jest zobowiązany do niezwłocznego przesyłania do Samorządu Województwa pisemnej informacji o zmianie swoich danych zawartych w umow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trybie przewidzianym w art. 14 ustawy z dnia 18 grudnia 2003 r. o krajowym systemie ewidencji producentów, ewidencji gospodarstw rolnych oraz ewidencji wniosków o przyznanie płatności (Dz. U. z 2004 r. Nr 10, poz. 76, z późn. zm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przeciwnym wypadku wszelką korespondencję wysyłaną przez Samorząd Województwa zgodnie z posiadanymi przez niego danymi uznaje się za doręczoną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zmiana ta nie wymaga zmiany umow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5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zedłożenia Samorządowi Województwa dokumentacji z przeprowadzonego postępowania o udzielenie zamówienia publiczneg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zwłocznie po zawarciu umowy o przyznanie pomocy, w przypadku postępowania zakończonego przed dniem jej zawarcia</a:t>
            </a:r>
            <a:r>
              <a:rPr b="0" lang="en-US" sz="2200" spc="-1" strike="noStrike">
                <a:solidFill>
                  <a:srgbClr val="cc66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Calibri"/>
              </a:rPr>
              <a:t>niezwłocznie po dniu zakończenia postępowania, w przypadku postępowania </a:t>
            </a:r>
            <a:r>
              <a:rPr b="0" lang="en-US" sz="2200" spc="-1" strike="noStrike">
                <a:solidFill>
                  <a:srgbClr val="cc66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cc6600"/>
                </a:solidFill>
                <a:latin typeface="Calibri"/>
              </a:rPr>
              <a:t>zakończonego po dniu zawarcia umowy o przyznanie pomocy lecz nie później niż 21 dni przed złożeniem wniosku o płatność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Zobowiązania Wnioskodawcy 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(16/16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kumentacja PZ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plet dokumentów przetargowych przygotowanych i ogłoszonych przez Zamawiającego, w tym ogłosze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pletną dokumentację z przebiegu prac komisji przetargow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pletną dokumentację dotyczącą powołania komisji przetargowej, jej składu i zasad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pletną ofertę wybranego Wykonawcy wraz z umową zawartą z wybranym Wykonawc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pletną dokumentację związaną z protestami i odwołaniami, jeżeli miały miejsce w danym postępowani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miana umowy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/4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258560" y="169992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wniosek każdej ze str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ymaga zachowania formy pisemnej pod rygorem nieważnoś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 może powodować zwiększenia kwoty przyznanej pomo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 przypadku zmian w zestawieniu rzeczowo-finansowym operacji, stanowiącym załącznik do umow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niosek w tej sprawie Beneficjent składa najpóźniej w dniu złożenia wniosku o płatność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Akty prawn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orządzenie 4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orządzenie Ministra Rolnictwa i Rozwoju Wsi z dnia 8 lipca 2008 r. w sprawie szczegółowych warunków i trybu przyznawania oraz wypłaty pomocy finansowej w ramach działania „Wdrażanie lokalnych strategii rozwoju” objętego Programem Rozwoju Obszarów Wiejskich na lata 2007 – 2013 (Dz. U. Nr 138, poz. 868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orządzenie Ministra Rolnictwa i Rozwoju Wsi z dnia 27 kwietnia 2009 r. zmieniające rozporządzenie w sprawie szczegółowych warunków i trybu przyznawania oraz wypłaty pomocy finansowej w ramach działania „Wdrażanie lokalnych strategii rozwoju” objętego Programem Rozwoju Obszarów Wiejskich na lata 2007—2013 (Dz. U. z 2009 r. Nr 71, poz. 6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miana umowy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2/4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99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przypadku zmiany wysokości kosztów kwalifikowalnych operacji w wyniku przeprowadzonego przez Beneficjenta postępowania o udzielenie zamówienia publicznego, która ma wpływ na wysokość kwoty pomoc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miana umowy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3/4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285560" y="157140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niosek o dokonanie zmiany umowy dotycząc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miany zakresu rzeczowego etapów lub wysokości transz Beneficjent skład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najpóźniej w dniu złożenia wniosku o płatność w ramach etapu, którego zakres lub wysokość kosztów kwalifikowalnych operacji została zmniejszona – jeśli dotyczy zmniejszenia zakresu lub wysokości kosztów kwalifikowalnych operacji w ramach jednego z etapów i zwiększenia zakresu lub wysokości kosztów kwalifikowalnych operacji w ramach etapu późniejszego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najpóźniej na 40 dni przed upływem terminu do złożenia wniosku o płatność w ramach etapu, w którym zakres lub wysokość kosztów kwalifikowalnych operacji ma zostać zwiększona – jeśli dotyczy zwiększenia zakresu lub wysokości kosztów kwalifikowalnych operacji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ramach jednego z etapów i zmniejszenia zakresu lub wysokości kosztów kwalifikowalnych operacji w ramach etapu późniejszego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Zmiana umowy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4/4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92000" y="206064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niosek o dokonanie zmiany umowy dotycząc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miany terminu złożenia wniosku o płatność, Beneficjent skład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zed upływem terminu złożenia wniosku o płatn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 wezwanie Samorządu Województ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Rozwiązanie umowy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1/3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331640" y="191592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ierozpoczęcie przez Beneficjenta realizacji operacji do końca terminu złożenia wniosku o płatność ostateczn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dstąpienie przez Beneficjenta od realizacji operac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iezłożenie wniosku o płatność w terminie wskazanym w umowie (lub na wezwani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SzPct val="146906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dmowa wypłaty pomo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iewypełnianie przez Beneficjenta któregokolwiek z zobowiąza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Rozwiązanie umowy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2/3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258560" y="207144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wierdzenie nieprawidłowości związanych z ubieganiem się o przyznanie pomocy lub realizacją oper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 rozumieniu art. 2 rozporządzenia Komisji (WE) nr 1848/2006 z dnia 14 grudnia 2006 r. dotyczącego nieprawidłowości i odzyskiwania kwot niesłusznie wypłaconych w związku z finansowaniem wspólnej polityki rolnej oraz organizacji systemu informacyjnego w tej dziedzinie i uchylającego rozporządzenie Rady (EWG) nr 595/91 (Dz. Urz. UE L 355 z 15.12.2006, str. 5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okresie realizacji operacji lub do dnia upływu </a:t>
            </a:r>
            <a:r>
              <a:rPr b="0" lang="en-US" sz="2000" spc="-1" strike="noStrike">
                <a:solidFill>
                  <a:srgbClr val="ff3300"/>
                </a:solidFill>
                <a:latin typeface="Calibri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at od dnia dokonania płatności ostateczn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Rozwiązanie umowy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(3/3)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547280" y="2076480"/>
            <a:ext cx="7186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ywnej oceny wszystkich postępowań o udzielenie zamówienia publicznego w ramach oper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związanie umowy następuje po zakończeniu przez Agencję czynności związanych z odzyskaniem wypłaconej Beneficjentowi pomocy oraz płatności zaliczk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85920" y="5571720"/>
            <a:ext cx="6500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c00000"/>
                </a:solidFill>
                <a:latin typeface="Calibri"/>
              </a:rPr>
              <a:t>Dziękuję za uwagę</a:t>
            </a:r>
            <a:endParaRPr b="0" lang="en-US" sz="43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465" name="Symbol zastępczy obrazu 23" descr="DSCN8852.jpg"/>
          <p:cNvPicPr/>
          <p:nvPr/>
        </p:nvPicPr>
        <p:blipFill>
          <a:blip r:embed="rId1"/>
          <a:srcRect l="0" t="4488" r="0" b="4488"/>
          <a:stretch/>
        </p:blipFill>
        <p:spPr>
          <a:xfrm>
            <a:off x="1428840" y="285840"/>
            <a:ext cx="7429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Podstawa przyznania pomocy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85560" y="157140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moc (…) jest przyznawana na podstawie umowy zawieranej, pod rygorem nieważności, w formie pisem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t. 22 ust. 1 ustawy 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ularz umowy przyznania pomocy zatwierdzony przez Ministra Rolnictwa i Rozwoju W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Umowa przyznania pomocy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285560" y="157140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ormularz uzupełniony o informacje z poprawnie zweryfikowanego wniosku o przyznanie pomo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rzypadku miejsc przeznaczonych do wypełnien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3920" y="71280"/>
            <a:ext cx="78584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Treść umowy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85560" y="157140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mowa określ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awa i obowiązki stron związane z realizacją operacj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 rama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u Rozwoju Obszarów Wiejskich na lata 2007-2013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si 4 „Leader”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ziałania 413 „Wdrażanie LSR”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ODNOWA I ROZWÓJ WS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Treść umowy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tuł oper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ejsce/miejsca realizacji oper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kalna grupa działa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czba etap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zyznana pomoc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sokość trans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Miejsce realizacji operacji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476360" y="2205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WESTY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5724360" y="227664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SZAR L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4427640" y="24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332000" y="4149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IEINWESTY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5867280" y="3933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BSZAR 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5867280" y="44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A OBSZAREM 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0"/>
          <p:cNvSpPr/>
          <p:nvPr/>
        </p:nvSpPr>
        <p:spPr>
          <a:xfrm flipV="1">
            <a:off x="4859280" y="414972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4859280" y="4508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Beneficjen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siada siedzibę na obszarze objętym LSR lub realizującym operację w ramach działania 4.1, „Wdrażanie lokalnych strategii rozwoju” odpowiadającą warunkom przyznania pomocy w ramach działania „Odnowa i rozwój wsi” na obszarze LSR, realizowanej przez LGD…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2:46:28Z</dcterms:created>
  <dc:creator>ltom</dc:creator>
  <dc:description/>
  <dc:language>en-US</dc:language>
  <cp:lastModifiedBy>KLukas</cp:lastModifiedBy>
  <dcterms:modified xsi:type="dcterms:W3CDTF">2009-11-17T16:41:16Z</dcterms:modified>
  <cp:revision>321</cp:revision>
  <dc:subject/>
  <dc:title>Podejście Leader</dc:title>
</cp:coreProperties>
</file>