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980720" y="0"/>
            <a:ext cx="571500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0"/>
            <a:ext cx="571500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8210520" y="59436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"/>
          <p:cNvPicPr/>
          <p:nvPr/>
        </p:nvPicPr>
        <p:blipFill>
          <a:blip r:embed="rId3"/>
          <a:stretch/>
        </p:blipFill>
        <p:spPr>
          <a:xfrm>
            <a:off x="8077320" y="304920"/>
            <a:ext cx="831600" cy="583920"/>
          </a:xfrm>
          <a:prstGeom prst="rect">
            <a:avLst/>
          </a:prstGeom>
          <a:ln w="0">
            <a:noFill/>
          </a:ln>
        </p:spPr>
      </p:pic>
      <p:pic>
        <p:nvPicPr>
          <p:cNvPr id="4" name="Obraz 5" descr="end.JPG"/>
          <p:cNvPicPr/>
          <p:nvPr/>
        </p:nvPicPr>
        <p:blipFill>
          <a:blip r:embed="rId4"/>
          <a:stretch/>
        </p:blipFill>
        <p:spPr>
          <a:xfrm>
            <a:off x="0" y="0"/>
            <a:ext cx="1525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cf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6" descr="end.JPG"/>
          <p:cNvPicPr/>
          <p:nvPr/>
        </p:nvPicPr>
        <p:blipFill>
          <a:blip r:embed="rId2"/>
          <a:srcRect l="0" t="0" r="6680" b="0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71400" y="1356840"/>
            <a:ext cx="70945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Verdana"/>
                <a:ea typeface="Cambria Math"/>
              </a:rPr>
              <a:t>Załączniki </a:t>
            </a:r>
            <a:br>
              <a:rPr sz="2800"/>
            </a:br>
            <a:r>
              <a:rPr b="1" lang="pl-PL" sz="2800" spc="-1" strike="noStrike">
                <a:solidFill>
                  <a:srgbClr val="002060"/>
                </a:solidFill>
                <a:latin typeface="Verdana"/>
                <a:ea typeface="Cambria Math"/>
              </a:rPr>
              <a:t>do wniosku o przyznanie pomocy </a:t>
            </a:r>
            <a:br>
              <a:rPr sz="2800"/>
            </a:br>
            <a:r>
              <a:rPr b="1" lang="pl-PL" sz="2800" spc="-1" strike="noStrike">
                <a:solidFill>
                  <a:srgbClr val="002060"/>
                </a:solidFill>
                <a:latin typeface="Verdana"/>
                <a:ea typeface="Cambria Math"/>
              </a:rPr>
              <a:t>na „małe projekty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356760"/>
            <a:ext cx="762948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6. Dokument poświadczający tytuł prawny do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nieruchomości, na której będzie realizowana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operacja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- kopia potwierdzona za zgodność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Dołącza Wnioskodawca będący jedynym właścicielem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nieruchomości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7. Oświadczenie właściciela, współwłaściciela lub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osiadacza samoistnego nieruchomości,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że wyraża zgodę na realizację operacji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bezpośrednio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związanej z nieruchomością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– oryginał sporządzony na formularzu dołączonym do wniosku.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Dołącza się w przypadku gdy Wnioskodawca nie jest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właścicielem nieruchomości.</a:t>
            </a:r>
            <a:br>
              <a:rPr sz="16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W przypadku, gdy występuje posiadanie zależne albo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współwłasność należy załączyć oświadczenia wszystkich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współwłaścicieli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863640" y="-153360"/>
            <a:ext cx="7594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240" y="285480"/>
            <a:ext cx="76294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8. Dokument potwierdzający przyznanie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środków publicznych z jst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–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oryginał albo kopia potwierdzona za zgodność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Dołącza się tylko w przypadku współfinansowania operacji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ze środków jst</a:t>
            </a:r>
            <a:r>
              <a:rPr b="0" i="1" lang="pl-PL" sz="2000" spc="-1" strike="noStrike">
                <a:solidFill>
                  <a:srgbClr val="00206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9. Dokument potwierdzający przyznanie dotacji ze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środków budżetowych Funduszu Kościelnego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–oryginał albo kopia potwierdzona za zgodność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Dołącza się tylko w przypadku współfinansowania operacji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ze z tych środków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20. Zaświadczenie wydane przez Wojewódzkiego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Konserwatora Zabytków potwierdzające, że obiekt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jest wpisany do rejestru lub ewidencji zabytków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–oryginał albo kopia potwierdzona za zgodność </a:t>
            </a: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nie starsze niż 3 m-ce.</a:t>
            </a:r>
            <a:br>
              <a:rPr sz="1600"/>
            </a:b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863640" y="-189000"/>
            <a:ext cx="7594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71240" y="214200"/>
            <a:ext cx="76294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21. Opinia gminnej komisji urbanistyczno-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architektonicznej w sprawie zgodności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z miejscowym planem zagospodarowania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rzestrzennego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- załącznik wymagany tylko w przypadku gdy operacja będzie </a:t>
            </a: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polegała na budowie obiektu od podstaw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–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oryginał albo kopia potwierdzona za zgodność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W przypadku, gdy w danej gminie nie funkcjonuje powyższa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komisja albo nie ma planu zagospodarowania przestrzennego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dopuszcza się dołączenie innego dokumentu potwierdzającego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zgodność z dokumentami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planistycznymi np.: „Studium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uwarunkowań kierunków zagospodarowania przestrzennego”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143000" y="-23040"/>
            <a:ext cx="7315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71720" y="214200"/>
            <a:ext cx="79293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22. Zaświadczenie o wpisie do ewidencji innych obiektów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rowadzonej przez wójta/burmistrza/ prezydenta</a:t>
            </a:r>
            <a:br>
              <a:rPr sz="2800"/>
            </a:b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–oryginał albo kopia potwierdzona za zgodność </a:t>
            </a:r>
            <a:br>
              <a:rPr sz="2800"/>
            </a:b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W przypadku, gdy Wnioskodawca prowadzi usługi hotelarskie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br>
              <a:rPr sz="1600"/>
            </a:b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w obiektach  innych niż hotelarskie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23. Przyrzeczenie zaszeregowania obiektu do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odpowiedniego rodzaju i kategorii obiektu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hotelarskiego wydawane przez Marszałka  Woj.</a:t>
            </a:r>
            <a:br>
              <a:rPr sz="2800"/>
            </a:b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–oryginał albo kopia potwierdzona za zgodność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W przypadku, gdy Wnioskodawca prowadzi usługi hotelarskie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br>
              <a:rPr sz="1600"/>
            </a:b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w obiektach  hotelarskich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863640" y="-189000"/>
            <a:ext cx="7594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071360" y="285840"/>
            <a:ext cx="80722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24. Decyzje, pozwolenia lub opinie organów administracji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ublicznej, jeżeli z odrębnych przepisów wynika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obowiązek ich uzyskania w związku z realizacją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operacji,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-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o ile ich uzyskanie jest możliwe przed rozpoczęciem realizacji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operacji  (lub przed dniem złożenia WOPP)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Mogą to być przepisy: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sanitarn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PPOŻ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dot. warunków zdrowotnych, żywności i żywie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ochrona środowisk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 –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oryginał albo kopia potwierdzona za zgodność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63640" y="-189000"/>
            <a:ext cx="7594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99720" y="857160"/>
            <a:ext cx="80010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–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oryginał albo kopia potwierdzona za zgodność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W przypadku operacji z zakresu działania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„Odnowa i rozwój wsi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” nie ma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konieczności dostarczania dodatkowych dokumentów ponieważ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linię demarkacyjną stanowi kwota wnioskowanej pomocy, która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wynika z wniosku.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W przypadku operacji z zakresu działania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„Różnicowanie w kierunku działalności nierolniczej”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może to być dokument potwierdzający np. :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ubezpieczenie w KRUS w pełnym zakresie krócej niż 12 m-cy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nieprzyznanie pomocy płatności do gruntów rolnych i płatności cukrowej       w roku poprzedzającym złożenie wniosku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ukończył 60 rok życ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przyznano mu rentę strukturalną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Uwaga! W przypadku Wnioskodawców zamieszkujących w miastach od 5-20 tys. mieszkańców w gminie miejsko-wiejskiej fakt wykluczenia z pomocy w Osi 3. nie oznacza, że nie może ten wnioskodawca skorzystać z pomocy w ramach działania 4.1 ale na operacje odpowiadające warunkom przyznania pomocy w działaniu „Różnicowanie w kierunku działalności nierolniczej”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214280" y="142560"/>
            <a:ext cx="72439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Tahoma"/>
              </a:rPr>
              <a:t>25. Dokumenty potwierdzające, że operacja nie odpowiada warunkom przyznania pomocy w ramach działań osi 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71720" y="928800"/>
            <a:ext cx="79293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W przypadku operacji z zakresu działania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„Tworzenie i rozwój mikroprzedsiębiorstw”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może to być dokument potwierdzający np. :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wysokość kosztów kwalifikowalnych nie przekracza kwoty 20 tys. zł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nie przewiduje się utworzenia miejsc pracy w przeliczeniu na pełne etaty     średnioroczn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Wnioskodawca prowadzi działalność w ramach PKD, który nie podlega wsparciu w ramach działania 31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nie jest mikroprzedsiębiorcą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operacja ma być realizowana na obszarze wykluczonym z pomocy </a:t>
            </a: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w działaniu 31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143000" y="214200"/>
            <a:ext cx="73152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Tahoma"/>
              </a:rPr>
              <a:t>25. Dokumenty potwierdzające, że operacja nie odpowiada warunkom przyznania pomocy w ramach działań osi 3. cd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00080" y="1213920"/>
            <a:ext cx="81439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26. Kosztorys inwestorski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Dla beneficjentów stosujących PZP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(na podstawie Rozporządzenia Ministra Infrastruktury z dnia 18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maja 2004 w spr. określenia metod i podstaw sporządzania </a:t>
            </a: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kosztorysu (…)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albo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Dla beneficjentów nie stosujących PZP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( w oparciu o Załącznik 1 do  Instrukcji wypełniania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wniosku </a:t>
            </a: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o przyznanie pomocy)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–oryginał albo kopia potwierdzona za zgodność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85560" y="142560"/>
            <a:ext cx="7172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C. Załączniki dotyczące robót budowlany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99720" y="499680"/>
            <a:ext cx="792972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27. Ostateczne pozwolenie na budowę lub decyzja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o środowiskowych uwarunkowaniach lub pozwolenie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wodnoprawne (…)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o ile dotyczy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 - kopia potwierdzona za zgodność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W związku z tym, że może wystąpić sytuacja, </a:t>
            </a:r>
            <a:br>
              <a:rPr sz="1600"/>
            </a:b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iż decyzja wygaśnie po dniu złożenie wniosku </a:t>
            </a:r>
            <a:br>
              <a:rPr sz="1600"/>
            </a:b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o przyznanie pomocy a przed dniem rozpoczęcia operacji </a:t>
            </a:r>
            <a:br>
              <a:rPr sz="1600"/>
            </a:b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a możliwość uzyskania nowej decyzji nastąpi po wygaśnięciu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poprzedniej należy dopuścić możliwość dołączenia przez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Wnioskodawcę potwierdzenia złożenia wniosku o wydanie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następnej decyzji.</a:t>
            </a: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14280" y="-46080"/>
            <a:ext cx="7243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071360" y="857160"/>
            <a:ext cx="80722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28. Zgłoszenie zamiaru wykonania robót budowlanych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właściwemu organowi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Oświadczenie Wnioskodawcy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– oryginał</a:t>
            </a:r>
            <a:br>
              <a:rPr sz="1600"/>
            </a:b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albo</a:t>
            </a:r>
            <a:br>
              <a:rPr sz="2000"/>
            </a:b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otwierdzenie wydane przez ten organ, że nie wniósł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sprzeciwu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- kopia potwierdzona za zgodność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29. Szkice sytuacyjne oraz rysunki charakterystyczne</a:t>
            </a:r>
            <a:br>
              <a:rPr sz="2000"/>
            </a:b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 –oryginał albo kopia potwierdzona za zgodność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43000" y="61200"/>
            <a:ext cx="7315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1785960"/>
            <a:ext cx="6400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A1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Osoba fizyczn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996600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Dokument tożsamości –części dotyczące danych osobowych – kopia potwierdzona za zgodność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00"/>
              </a:spcBef>
              <a:buClr>
                <a:srgbClr val="996600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Zaświadczenie z właściwej Ewidencji Ludności o zamieszkaniu na obszarze objętym LSR – oryginał</a:t>
            </a:r>
            <a:br>
              <a:rPr sz="2000"/>
            </a:br>
            <a:br>
              <a:rPr sz="20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  <a:ea typeface="Times New Roman"/>
              </a:rPr>
              <a:t>W przypadku gdy nie ma możliwości uzyskania takiego zaświadczenia a adres zamieszkania rożni się od adresu zameldowania należy dołączyć zaświadczenie </a:t>
            </a: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  <a:ea typeface="Times New Roman"/>
              </a:rPr>
              <a:t>o zameldowaniu na pobyt czasowy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356840" y="500040"/>
            <a:ext cx="71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002060"/>
                </a:solidFill>
                <a:latin typeface="Tahoma"/>
                <a:ea typeface="Times New Roman"/>
              </a:rPr>
              <a:t>I załączniki dotyczące Wnioskodaw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785520"/>
            <a:ext cx="6400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A2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Osoba fizyczna prowadząca działalność 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gospodarczą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3.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Zaświadczenie z właściwej Ewidencji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Działalności Gospodarczej o prowadzeniu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działalności gospodarczej na obszarze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objętym LSR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 -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  <a:ea typeface="Times New Roman"/>
              </a:rPr>
              <a:t>oryginał albo kopia potwierdzona za zgodność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,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  <a:ea typeface="Times New Roman"/>
              </a:rPr>
              <a:t>(także pozostałych wspólników spółki cywilnej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4a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.Umowa spółki cywilnej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–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  <a:ea typeface="Times New Roman"/>
              </a:rPr>
              <a:t>kopia potwierdzona za zgodność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4b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. Uchwała wspólników spółki cywilnej,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upoważniająca wspólnika do ubiegania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się o pomoc w imieniu wspólników –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  <a:ea typeface="Times New Roman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  <a:ea typeface="Times New Roman"/>
              </a:rPr>
              <a:t>oryginał albo kopia potwierdzona za zgodność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356840" y="382680"/>
            <a:ext cx="71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1714320"/>
            <a:ext cx="74152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5. Pełny odpis z KRS, wystawiony nie wcześniej niż 3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m-ce - kopia potwierdzona za zgodność,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6. Statut - kopia potwierdzona za zgodność,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7. Dokument określający lub potwierdzający osobowość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rawną Wnioskodawcy oraz posiadanie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siedziby albo prowadzenie działalności na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obszarze LSR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Załącza się tylko wtedy gdy wnioskodawca nie jest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zarejestrowany w KRS, może to być np.: </a:t>
            </a:r>
            <a:br>
              <a:rPr sz="1600"/>
            </a:b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ustawa o organizowaniu i prowadzeniu działalności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kulturalnej Art. 1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356840" y="214200"/>
            <a:ext cx="71010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A3 Osoba prawna albo jednostka 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nieposiadająca osobowości prawnej,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której ustawa nadaje zdolność prawn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240" y="1499760"/>
            <a:ext cx="73436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8. Zaświadczenie o posiadaniu osobowości prawnej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rzez kościelną jednostkę organizacyjną i/lub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o pełnieniu funkcji organu prawnego wystawione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rzez Wojewodę albo MSWiA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nie starsze niż 3 m-ce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(odpis z rejestru kościołów i innych związków wyznaniowych)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– oryginał albo kop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500120" y="357120"/>
            <a:ext cx="6958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A4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Osoba prawna albo jednostka 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nieposiadająca osobowości prawnej, 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działająca na podstawie przepisów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o stosunku Państwa do kościoł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240" y="1785960"/>
            <a:ext cx="73436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9. Zaświadczenie z terytorialnej komisji wyborczej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o wyborze wójta/burmistrza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- kopia potwierdzona za zgodność,</a:t>
            </a:r>
            <a:br>
              <a:rPr sz="2000"/>
            </a:b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0. Uchwała Rady Gminy o powołaniu skarbnika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- kopia potwierdzona za zgodność,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2060"/>
                </a:solidFill>
                <a:latin typeface="Verdana"/>
              </a:rPr>
              <a:t>W przypadku gdy podmiotem wnioskującym jest </a:t>
            </a:r>
            <a:r>
              <a:rPr b="0" i="1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2060"/>
                </a:solidFill>
                <a:latin typeface="Verdana"/>
              </a:rPr>
              <a:t>powiat należy załączyć dokumenty dotyczące </a:t>
            </a:r>
            <a:r>
              <a:rPr b="0" i="1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2060"/>
                </a:solidFill>
                <a:latin typeface="Verdana"/>
              </a:rPr>
              <a:t>powiatu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356840" y="428400"/>
            <a:ext cx="71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A5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Jednostka samorządu terytorialn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240" y="1428480"/>
            <a:ext cx="7558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1. Zaświadczenie o numerze identyfikacyjnym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nadanym zgodnie z ustawą z dnia 18 grudnia 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2003 r. o krajowym systemie ewidencji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roducentów, gospodarstw rolnych oraz ewidencji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wniosków o przyznanie płatności (Dz. U, z 2004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Nr 10, poz. 76 z późn, zm.)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- kopia potwierdzona za zgodność</a:t>
            </a:r>
            <a:br>
              <a:rPr sz="2000"/>
            </a:b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2. Informacja o posiadaczu numeru identyfikacyjnego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roducenta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- oryginał sporządzony na formularzu udostępnionym przez UM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800" spc="-1" strike="noStrike">
                <a:solidFill>
                  <a:srgbClr val="002060"/>
                </a:solidFill>
                <a:latin typeface="Verdana"/>
              </a:rPr>
              <a:t>Dołączają tylko podmioty, które posługują się </a:t>
            </a:r>
            <a:br>
              <a:rPr sz="1800"/>
            </a:br>
            <a:r>
              <a:rPr b="0" i="1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800" spc="-1" strike="noStrike">
                <a:solidFill>
                  <a:srgbClr val="002060"/>
                </a:solidFill>
                <a:latin typeface="Verdana"/>
              </a:rPr>
              <a:t>nr identyfikacyjnym nadanym wspólnie z małżonkiem, </a:t>
            </a:r>
            <a:r>
              <a:rPr b="0" i="1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800" spc="-1" strike="noStrike">
                <a:solidFill>
                  <a:srgbClr val="002060"/>
                </a:solidFill>
                <a:latin typeface="Verdana"/>
              </a:rPr>
              <a:t>współposiadaczem albo wspólnikiem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00120" y="428400"/>
            <a:ext cx="69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B. Załączniki wspólne  dla Wnioskodawc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785520"/>
            <a:ext cx="74865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3. Dokument o uzyskaniu pomocy </a:t>
            </a:r>
            <a:r>
              <a:rPr b="0" i="1" lang="pl-PL" sz="2000" spc="-1" strike="noStrike">
                <a:solidFill>
                  <a:srgbClr val="002060"/>
                </a:solidFill>
                <a:latin typeface="Verdana"/>
              </a:rPr>
              <a:t>de minimis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w okresie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obejmującym bieżący rok podatkowy oraz 2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oprzednie lata podatkowe: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Zaświadczenie (oryginał albo kopia potwierdzona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za zgodność) w przypadku gdy Wnioskodawca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uzyskał pomoc </a:t>
            </a:r>
            <a:r>
              <a:rPr b="0" i="1" lang="pl-PL" sz="2000" spc="-1" strike="noStrike">
                <a:solidFill>
                  <a:srgbClr val="002060"/>
                </a:solidFill>
                <a:latin typeface="Verdana"/>
              </a:rPr>
              <a:t>de minimis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albo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oświadczenie sporządzone na formularzu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udostępnionym przez UM gdy Wnioskodawca tej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omocy nie uzyskał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4. Pełnomocnictwo jeżeli zostało udzielone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- oryginał albo kopia potwierdzona za zgodność przez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notariusza, przy czym notariusz potwierdza za zgodność tylko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złożone podpisy tzn. pełnomocnictwo nie musi być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sporządzone w formie aktu notarialnego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863640" y="-10440"/>
            <a:ext cx="7594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00080" y="428400"/>
            <a:ext cx="81439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5. Oświadczenie wnioskodawcy o kwalifikowalności VAT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na formularzu udostępnionym przez UM 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5a - dla Wnioskodawcy będącego osobą prawną albo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jednostką nieposiadającą osobowości prawnej,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5b - dla osób fizycznych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63640" y="-81720"/>
            <a:ext cx="7594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37:48Z</dcterms:created>
  <dc:creator>leader</dc:creator>
  <dc:description/>
  <dc:language>en-US</dc:language>
  <cp:lastModifiedBy>SStaniuk</cp:lastModifiedBy>
  <dcterms:modified xsi:type="dcterms:W3CDTF">2009-11-27T13:58:36Z</dcterms:modified>
  <cp:revision>197</cp:revision>
  <dc:subject/>
  <dc:title>TITRE EN MAJUSCULES</dc:title>
</cp:coreProperties>
</file>