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571500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571500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8210520" y="5943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"/>
          <p:cNvPicPr/>
          <p:nvPr/>
        </p:nvPicPr>
        <p:blipFill>
          <a:blip r:embed="rId3"/>
          <a:stretch/>
        </p:blipFill>
        <p:spPr>
          <a:xfrm>
            <a:off x="8077320" y="304920"/>
            <a:ext cx="831600" cy="583920"/>
          </a:xfrm>
          <a:prstGeom prst="rect">
            <a:avLst/>
          </a:prstGeom>
          <a:ln w="0">
            <a:noFill/>
          </a:ln>
        </p:spPr>
      </p:pic>
      <p:pic>
        <p:nvPicPr>
          <p:cNvPr id="4" name="Obraz 5" descr="end.JPG"/>
          <p:cNvPicPr/>
          <p:nvPr/>
        </p:nvPicPr>
        <p:blipFill>
          <a:blip r:embed="rId4"/>
          <a:stretch/>
        </p:blipFill>
        <p:spPr>
          <a:xfrm>
            <a:off x="0" y="0"/>
            <a:ext cx="1525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cf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end.JPG"/>
          <p:cNvPicPr/>
          <p:nvPr/>
        </p:nvPicPr>
        <p:blipFill>
          <a:blip r:embed="rId2"/>
          <a:srcRect l="0" t="0" r="6680" b="0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71400" y="1356840"/>
            <a:ext cx="70945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Verdana"/>
                <a:ea typeface="Cambria Math"/>
              </a:rPr>
              <a:t>Zakres „małych projektów”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Cambria Math"/>
              </a:rPr>
              <a:t>tj. operacji , które nie odpowiadają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Cambria Math"/>
              </a:rPr>
              <a:t>warunkom przyznania pomocy w ramach działań Osi 3., ale przyczyniają się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Cambria Math"/>
              </a:rPr>
              <a:t>do osiągnięcia celów tej osi.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Cambria Math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3000" y="1285560"/>
            <a:ext cx="77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6. 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zachowanie lokalnego dziedzictwa kulturowego </a:t>
            </a: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i historycznego, w tym przez :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c) remont lub wyposażenie muzeów,</a:t>
            </a:r>
            <a:br>
              <a:rPr sz="1800"/>
            </a:br>
            <a:br>
              <a:rPr sz="1800"/>
            </a:b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Definicja muzeum zgodna w Ustawą z dnia 21 listopada 1996 r. </a:t>
            </a:r>
            <a:br>
              <a:rPr sz="1400"/>
            </a:b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o muzeach (Dz. U. z 1997 r., Nr 5, poz. 204, z późn. zm.)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d) remont lub wyposażenie świetlic wiejskic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Świetlica wiejska  - 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budynek lub pomieszczenie przeznaczone do 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spędzania czasu wolnego, rozwijania zainteresowań, działań na rzecz 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rozwoju kultury i edukacji dla mieszkańców wsi oraz miejsce integracji 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lokalnych społeczności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00120" y="285840"/>
            <a:ext cx="69580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- zakres pomoc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2640" y="1928880"/>
            <a:ext cx="764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2060"/>
              </a:buClr>
              <a:buSzPct val="12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inicjowanie powstawania, przetwarzania lub wprowadzania na rynek produktów i usług opartych na lokalnych zasobach, tradycyjnych sektorach gospodarki lub lokalnym dziedzictwie, w tym kulturowym, historycznym lub przyrodniczym, albo podnoszenie jakości takich produktów;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 zakup urządzeń niezbędnych do produkcji,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promocja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uzyskiwanie certyfikatów jakości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opłaty za uczestnictwo w targach produktów tradycyjnych lub specyficznych dla danego obszaru…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Wprowadzenie produktu na rynek nie może się odbywać przez zakup produktu lokalnego od producenta w celu odsprzedania go osobom trzecim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2060"/>
              </a:buClr>
              <a:buSzPct val="12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Zakup sadzonek tradycyjnych odmian roślin uprawnych (winorośl, śliwy)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ie może stanowić kosztu kwalifikowalnego ponieważ pomoc na operacje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z zakresu działań Osi 3. nie może być przyznana na realizację celów osi 1. (wsparcie działalności rolniczej)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12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00120" y="285480"/>
            <a:ext cx="69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- zakres pomoc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cf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4280" y="1714680"/>
            <a:ext cx="771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00"/>
              </a:spcBef>
              <a:buClr>
                <a:srgbClr val="002060"/>
              </a:buClr>
              <a:buSzPct val="120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wykorzystanie energii pochodzącej ze źródeł odnawialnych w celu poprawienia warunków prowadzenia działalności kulturalnej lub gospodarczej.</a:t>
            </a:r>
            <a:br>
              <a:rPr sz="1800"/>
            </a:br>
            <a:br>
              <a:rPr sz="18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np. zakładanie kolektorów słonecznych, 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instalacji pozwalających na wykorzystanie energii geotermalnej, wiatrowej lub wodnej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SzPct val="120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SzPct val="120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Uwaga!!!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Zakup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 materiałów, przedmiotów, maszyn, urządzeń, narzędzi, wyposażenia, sprzętu czy oprogramowania</a:t>
            </a: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nie może stanowić celu operacji!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85560" y="499680"/>
            <a:ext cx="7172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- zakres pomoc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178596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66"/>
                </a:solidFill>
                <a:latin typeface="Verdana"/>
              </a:rPr>
              <a:t>Rozporządzenie </a:t>
            </a:r>
            <a:br>
              <a:rPr sz="2000"/>
            </a:br>
            <a:r>
              <a:rPr b="1" lang="pl-PL" sz="2000" spc="-1" strike="noStrike">
                <a:solidFill>
                  <a:srgbClr val="006666"/>
                </a:solidFill>
                <a:latin typeface="Verdana"/>
              </a:rPr>
              <a:t>Ministra Rolnictwa i Rozwoju Wsi </a:t>
            </a:r>
            <a:br>
              <a:rPr sz="2000"/>
            </a:br>
            <a:r>
              <a:rPr b="1" lang="pl-PL" sz="2000" spc="-1" strike="noStrike">
                <a:solidFill>
                  <a:srgbClr val="006666"/>
                </a:solidFill>
                <a:latin typeface="Verdana"/>
              </a:rPr>
              <a:t>z dnia 8 lipca 2008 r.</a:t>
            </a:r>
            <a:br>
              <a:rPr sz="2000"/>
            </a:br>
            <a:r>
              <a:rPr b="1" lang="pl-PL" sz="2000" spc="-1" strike="noStrike">
                <a:solidFill>
                  <a:srgbClr val="006666"/>
                </a:solidFill>
                <a:latin typeface="Verdana"/>
              </a:rPr>
              <a:t>(DZ. U. z 2007 r. Nr 138, poz. 868, </a:t>
            </a:r>
            <a:br>
              <a:rPr sz="2000"/>
            </a:br>
            <a:r>
              <a:rPr b="1" lang="pl-PL" sz="2000" spc="-1" strike="noStrike">
                <a:solidFill>
                  <a:srgbClr val="006666"/>
                </a:solidFill>
                <a:latin typeface="Verdana"/>
              </a:rPr>
              <a:t>z 2009 r. Nr 71, poz. 613) </a:t>
            </a:r>
            <a:br>
              <a:rPr sz="2000"/>
            </a:br>
            <a:r>
              <a:rPr b="1" i="1" lang="pl-PL" sz="2000" spc="-1" strike="noStrike">
                <a:solidFill>
                  <a:srgbClr val="006666"/>
                </a:solidFill>
                <a:latin typeface="Verdana"/>
              </a:rPr>
              <a:t>w sprawie szczegółowych warunków </a:t>
            </a:r>
            <a:br>
              <a:rPr sz="2000"/>
            </a:br>
            <a:r>
              <a:rPr b="1" i="1" lang="pl-PL" sz="2000" spc="-1" strike="noStrike">
                <a:solidFill>
                  <a:srgbClr val="006666"/>
                </a:solidFill>
                <a:latin typeface="Verdana"/>
              </a:rPr>
              <a:t>i trybu przyznawania oraz wypłaty pomocy finansowej w ramach działania</a:t>
            </a:r>
            <a:br>
              <a:rPr sz="2000"/>
            </a:br>
            <a:r>
              <a:rPr b="1" i="1" lang="pl-PL" sz="2000" spc="-1" strike="noStrike">
                <a:solidFill>
                  <a:srgbClr val="006666"/>
                </a:solidFill>
                <a:latin typeface="Verdana"/>
              </a:rPr>
              <a:t> „Wdrażanie lokalnych strategii rozwoju” objętego Programem Rozwoju Obszarów Wiejskich na lata 2007 – 2013</a:t>
            </a:r>
            <a:r>
              <a:rPr b="1" lang="pl-PL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428480" y="499680"/>
            <a:ext cx="68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Podstawa praw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214360"/>
            <a:ext cx="6400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349"/>
              </a:spcBef>
              <a:buClr>
                <a:srgbClr val="00206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podnoszenie świadomości społeczności lokalnej, w tym przez organizację szkoleń </a:t>
            </a: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i innych przedsięwzięć o charakterze edukacyjnym i warsztatowym dla podmiotów z obszaru objętego LSR, </a:t>
            </a:r>
            <a:r>
              <a:rPr b="1" lang="pl-PL" sz="1400" spc="-1" strike="noStrike">
                <a:solidFill>
                  <a:srgbClr val="002060"/>
                </a:solidFill>
                <a:latin typeface="Verdana"/>
              </a:rPr>
              <a:t>innych niż realizowane </a:t>
            </a:r>
            <a:br>
              <a:rPr sz="1400"/>
            </a:br>
            <a:r>
              <a:rPr b="1" lang="pl-PL" sz="1400" spc="-1" strike="noStrike">
                <a:solidFill>
                  <a:srgbClr val="002060"/>
                </a:solidFill>
                <a:latin typeface="Verdana"/>
              </a:rPr>
              <a:t>w ramach działania: szkolenia zawodowe dla osób zatrudnionych w rolnictwie i leśnictwie;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 kursy dla przedsiębiorców, 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projekty edukacyjne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warsztaty z zakresu ginących  zawodów </a:t>
            </a:r>
            <a:r>
              <a:rPr b="0" lang="pl-PL" sz="1200" spc="-1" strike="noStrike">
                <a:solidFill>
                  <a:srgbClr val="002060"/>
                </a:solidFill>
                <a:latin typeface="Verdana"/>
              </a:rPr>
              <a:t>(np.:  dla przyszłych kowali, snycerzy, tkaczek, koronkarek, zdunów, bednarzy, kołodziei, ludwisarzy, rymarzy,  garncarzy, plecionkarzy…), </a:t>
            </a:r>
            <a:r>
              <a:rPr b="0" lang="pl-PL" sz="12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warsztaty teatralne, muzyczne,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863640" y="285480"/>
            <a:ext cx="7594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- zakres pomoc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71760" y="2071800"/>
            <a:ext cx="657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12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podnoszenie jakości życia społeczności lokalnej na obszarze objętym LSR, w tym przez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udostępnianie urządzeń i sprzętu komputerowego, w tym urządzeń i sprzętu umożliwiającego dostęp do Internetu,</a:t>
            </a:r>
            <a:br>
              <a:rPr sz="18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: kafejka internetowa,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organizację imprez kulturalnych,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rekreacyjnych lub sportowych;</a:t>
            </a:r>
            <a:br>
              <a:rPr sz="18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 festyny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koncerty folklorystyczne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dożynki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zawody sportowe,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spotkania integracyjne,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0228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- zakres pomoc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714680" y="1428840"/>
            <a:ext cx="6572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12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rozwijanie aktywności społeczności lokalnej,  w tym przez:</a:t>
            </a: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206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promocję lokalnej twórczości kulturalnej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z wykorzystaniem lokalnego dziedzictwa,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w tym kulturowego, historycznego lub przyrodniczego,</a:t>
            </a:r>
            <a:br>
              <a:rPr sz="18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 przeglądy zespołów folklorystycznych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zespołów kultywujących sztukę dawną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publikacje promujące lokalna kulturę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pokazy sztuki rzemieślniczej…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206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kultywowanie miejscowych tradycji, obrzędów i zwyczajów,</a:t>
            </a:r>
            <a:br>
              <a:rPr sz="18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 wyposażenie zespołów folklorystycznych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zakup mundurów reprezentacyjnych dla orkiestry OSP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spotkania muzyczne, …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kultywowanie języka regionalnego i gwary,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206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kultywowanie tradycyjnych zawodów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i rzemiosła;</a:t>
            </a:r>
            <a:br>
              <a:rPr sz="18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 zakładanie warsztatów rzemieślniczych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tworzenie miejsc, gdzie można przekazać wiedzę następnym pokoleniom…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8864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- zakres pomoc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14320" y="1785960"/>
            <a:ext cx="6500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002060"/>
              </a:buClr>
              <a:buSzPct val="12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rozwijanie turystyki lub rekreacji na obszarze objętym LSR, w tym przez:</a:t>
            </a: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utworzenie lub zmodernizowanie bazy informacji turystycznej oraz stron internetowych, przygotowanie i wydanie folderów oraz innych publikacji informacyjnych dotyczących obszaru objętego LSR,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42920"/>
            <a:ext cx="71722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- zakres pomoc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56840" y="1356840"/>
            <a:ext cx="73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Verdana"/>
              </a:rPr>
              <a:t>4. rozwijanie turystyki lub rekreacji na </a:t>
            </a:r>
            <a:r>
              <a:rPr b="1" lang="pl-PL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2400" spc="-1" strike="noStrike">
                <a:solidFill>
                  <a:srgbClr val="002060"/>
                </a:solidFill>
                <a:latin typeface="Verdana"/>
              </a:rPr>
              <a:t>obszarze objętym LSR, w tym przez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lnSpc>
                <a:spcPct val="100000"/>
              </a:lnSpc>
              <a:spcBef>
                <a:spcPts val="400"/>
              </a:spcBef>
              <a:buClr>
                <a:srgbClr val="996600"/>
              </a:buClr>
              <a:buSzPct val="120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budowę, odbudowę lub oznakowanie małej infrastruktury turystycznej,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w szczególności punktów widokowych,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miejsc wypoczynkowych lub biwakowych,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tras narciarstwa biegowego lub zjazdowego,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szlaków wodnych, rowerowych, konnych,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ścieżek spacerowych lub dydaktycznych;</a:t>
            </a:r>
            <a:br>
              <a:rPr sz="18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: zakup kajaków, rowerów dla turystów, budowa pomostów, stanic wodnych, budowa domków letniskowych na wynajem…</a:t>
            </a:r>
            <a:br>
              <a:rPr sz="1600"/>
            </a:br>
            <a:br>
              <a:rPr sz="16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Infrastruktura turystyczna - obiekty oraz urządzenia turystyczne, służące zaspokajaniu potrzeb związanych </a:t>
            </a:r>
            <a:br>
              <a:rPr sz="16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z bierną lub aktywną turystyką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2439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- zakres pomoc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714680" y="1642680"/>
            <a:ext cx="657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00"/>
              </a:spcBef>
              <a:buClr>
                <a:srgbClr val="002060"/>
              </a:buClr>
              <a:buSzPct val="12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zachowanie, odtworzenie, zabezpieczenie lub oznakowanie cennego, lokalnego dziedzictwa krajobrazowego i przyrodniczego, </a:t>
            </a: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w szczególności obszarów objętych poszczególnymi formami ochrony przyrody, </a:t>
            </a: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w tym obszarów Natura 2000;</a:t>
            </a:r>
            <a:br>
              <a:rPr sz="1800"/>
            </a:br>
            <a:br>
              <a:rPr sz="18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 przywrócenie rodzimych lokalnych gatunków roślin, odtworzenie zabytkowych parków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zabezpieczenie pomników przyrody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oznakowanie i rozpowszechnianie wiedzy o wartości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i znaczeniu tych obiektów…</a:t>
            </a:r>
            <a:br>
              <a:rPr sz="1400"/>
            </a:br>
            <a:br>
              <a:rPr sz="14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 ramach tego pkt. zakresu pomocy nie przewiduje się zakupu urządzeń wykorzystujących energię ze źródeł odnawialnych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879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- zakres pomoc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14320" y="1285560"/>
            <a:ext cx="6429240" cy="5357880"/>
          </a:xfrm>
          <a:prstGeom prst="rect">
            <a:avLst/>
          </a:prstGeom>
          <a:noFill/>
          <a:ln w="9360">
            <a:solidFill>
              <a:srgbClr val="5b87f2"/>
            </a:solidFill>
            <a:miter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002060"/>
              </a:buClr>
              <a:buSzPct val="12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zachowanie lokalnego dziedzictwa kulturowego i historycznego, w tym przez 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odbudowę albo odnowienie lub oznakowanie budowli lub obiektów małej architektury wpisanych do rejestru zabytków lub objętych wojewódzką ewidencją zabytków,</a:t>
            </a:r>
            <a:br>
              <a:rPr sz="18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 odnowienie zabytkowych: kapliczek, pomników,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 ogrodzeń, bram, dzwonnic, cmentarzy, mostków, altan…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odnowienie elementów dachów lub elewacji zewnętrznych budynków wpisanych do rejestru zabytków lub objętych wojewódzką ewidencją zabytków;</a:t>
            </a:r>
            <a:br>
              <a:rPr sz="1800"/>
            </a:br>
            <a:br>
              <a:rPr sz="18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Definicja obiektu małej architektury - zgodna </a:t>
            </a:r>
            <a:br>
              <a:rPr sz="16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z ustawą z dnia 7 lipca 1994 r. Prawo budowlane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(Dz.U. z 2006 r. Nr 156, poz. 1118 z późn. zm.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71400" y="213840"/>
            <a:ext cx="6886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- zakres pomoc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37:48Z</dcterms:created>
  <dc:creator>leader</dc:creator>
  <dc:description/>
  <dc:language>en-US</dc:language>
  <cp:lastModifiedBy>SStaniuk</cp:lastModifiedBy>
  <dcterms:modified xsi:type="dcterms:W3CDTF">2009-11-27T10:07:10Z</dcterms:modified>
  <cp:revision>171</cp:revision>
  <dc:subject/>
  <dc:title>TITRE EN MAJUSCULES</dc:title>
</cp:coreProperties>
</file>